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jpeg" ContentType="image/jpeg"/>
  <Override PartName="/ppt/media/image3.jpeg" ContentType="image/jpeg"/>
  <Override PartName="/ppt/media/image13.jpeg" ContentType="image/jpeg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835080" y="-360"/>
            <a:ext cx="2932200" cy="469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85600" y="701280"/>
            <a:ext cx="500508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1440" y="46911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381960"/>
            <a:ext cx="2932200" cy="470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835080" y="9381960"/>
            <a:ext cx="2932200" cy="470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FD8A1B-0734-46DD-B1F0-41E2A3D1A1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85960" y="701640"/>
            <a:ext cx="5005080" cy="3754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1440" y="4691160"/>
            <a:ext cx="4964040" cy="44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85960" y="701640"/>
            <a:ext cx="5005080" cy="3754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1440" y="46911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85960" y="701640"/>
            <a:ext cx="5005080" cy="3754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1440" y="46911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85960" y="701640"/>
            <a:ext cx="5005080" cy="3754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1440" y="46911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85960" y="701640"/>
            <a:ext cx="5005080" cy="3754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1440" y="46911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84160" y="70164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1440" y="46911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85960" y="701640"/>
            <a:ext cx="5005080" cy="3754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1440" y="4691160"/>
            <a:ext cx="4964040" cy="44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85960" y="701640"/>
            <a:ext cx="5005080" cy="3754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1440" y="46911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636768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636768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636768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624816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624816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636768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636768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636768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62481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76200" y="18720"/>
            <a:ext cx="664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636768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62481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636768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636768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636768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636768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636768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624816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624816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636768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636768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6367680"/>
            <a:ext cx="250236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76200" y="18720"/>
            <a:ext cx="664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636768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636768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6248160"/>
            <a:ext cx="37926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6367680"/>
            <a:ext cx="7772400" cy="1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setra.es/Asetra.jsp?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53440" y="6534000"/>
            <a:ext cx="533520" cy="533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10480" y="6534000"/>
            <a:ext cx="685800" cy="324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62481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37440" indent="-3744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37440" indent="-37440"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37440" indent="-37440">
              <a:spcBef>
                <a:spcPts val="24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37440" indent="-3744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37440" indent="-3744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37440" indent="-37440">
              <a:spcBef>
                <a:spcPts val="2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849600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4F67-4A64-4331-9633-1EE4CD100982}" type="slidenum">
              <a:rPr b="1" lang="es-E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24000"/>
            <a:ext cx="990720" cy="54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1224000"/>
            <a:ext cx="990360" cy="54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81080" y="1224000"/>
            <a:ext cx="6629400" cy="54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52280" y="122400"/>
            <a:ext cx="1219320" cy="963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10400" y="108000"/>
            <a:ext cx="14511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424160" y="785880"/>
            <a:ext cx="7719840" cy="5919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90720" cy="36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685800"/>
            <a:ext cx="990360" cy="3636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685800"/>
            <a:ext cx="6629400" cy="3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7c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3600" y="63360"/>
            <a:ext cx="2455560" cy="584280"/>
            <a:chOff x="93600" y="63360"/>
            <a:chExt cx="2455560" cy="5842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93600" y="63360"/>
              <a:ext cx="76212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33320" y="103320"/>
              <a:ext cx="1815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800" spc="-1" strike="noStrike">
                  <a:solidFill>
                    <a:srgbClr val="808080"/>
                  </a:solidFill>
                  <a:latin typeface="Verdana"/>
                </a:rPr>
                <a:t>C</a:t>
              </a:r>
              <a:r>
                <a:rPr b="1" i="1" lang="es-ES" sz="800" spc="-1" strike="noStrike">
                  <a:solidFill>
                    <a:srgbClr val="c0c0c0"/>
                  </a:solidFill>
                  <a:latin typeface="Verdana"/>
                </a:rPr>
                <a:t>E</a:t>
              </a:r>
              <a:r>
                <a:rPr b="1" i="1" lang="es-ES" sz="800" spc="-1" strike="noStrike">
                  <a:solidFill>
                    <a:srgbClr val="808080"/>
                  </a:solidFill>
                  <a:latin typeface="Verdana"/>
                </a:rPr>
                <a:t>FT</a:t>
              </a:r>
              <a:r>
                <a:rPr b="1" i="1" lang="es-ES" sz="800" spc="-1" strike="noStrike">
                  <a:solidFill>
                    <a:srgbClr val="c0c0c0"/>
                  </a:solidFill>
                  <a:latin typeface="Verdana"/>
                </a:rPr>
                <a:t>RAL</a:t>
              </a:r>
              <a:r>
                <a:rPr b="1" i="1" lang="es-ES" sz="800" spc="-1" strike="noStrike">
                  <a:solidFill>
                    <a:srgbClr val="808080"/>
                  </a:solidFill>
                  <a:latin typeface="Verdana"/>
                </a:rPr>
                <a:t> – CET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700" spc="-1" strike="noStrike">
                  <a:solidFill>
                    <a:srgbClr val="c0c0c0"/>
                  </a:solidFill>
                  <a:latin typeface="Verdana"/>
                </a:rPr>
                <a:t>Confederación Española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700" spc="-1" strike="noStrike">
                  <a:solidFill>
                    <a:srgbClr val="c0c0c0"/>
                  </a:solidFill>
                  <a:latin typeface="Verdana"/>
                </a:rPr>
                <a:t>Formación del Transporte y la Logístic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setra.es/Asetra.jsp?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12.wm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setra.es/Asetra.jsp?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asetra.es/Asetra.jsp?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332280"/>
            <a:ext cx="61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3300"/>
                </a:solidFill>
                <a:latin typeface="Verdana"/>
                <a:ea typeface="Times New Roman"/>
              </a:rPr>
              <a:t>JORNADA TÉCNICA</a:t>
            </a:r>
            <a:endParaRPr b="1" lang="en-US" sz="40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13000"/>
            <a:ext cx="882000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39960" indent="-482760" algn="ctr">
              <a:lnSpc>
                <a:spcPct val="140000"/>
              </a:lnSpc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 algn="ctr">
              <a:lnSpc>
                <a:spcPct val="140000"/>
              </a:lnSpc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i="1" lang="es-ES" sz="3200" spc="-1" strike="noStrike">
                <a:solidFill>
                  <a:srgbClr val="666699"/>
                </a:solidFill>
                <a:latin typeface="Verdana"/>
                <a:ea typeface="Times New Roman"/>
              </a:rPr>
              <a:t>“</a:t>
            </a:r>
            <a:r>
              <a:rPr b="1" i="1" lang="es-ES" sz="3200" spc="-1" strike="noStrike">
                <a:solidFill>
                  <a:srgbClr val="666699"/>
                </a:solidFill>
                <a:latin typeface="Verdana"/>
                <a:ea typeface="Times New Roman"/>
              </a:rPr>
              <a:t>CAP – FORMACIÓN DE CONDUCTORES PROFESIONALES DE TRANSPOR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 algn="ctr">
              <a:lnSpc>
                <a:spcPct val="140000"/>
              </a:lnSpc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 algn="ctr">
              <a:lnSpc>
                <a:spcPct val="140000"/>
              </a:lnSpc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i="1" lang="es-E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Ovidio de la Ro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 algn="ctr">
              <a:lnSpc>
                <a:spcPct val="140000"/>
              </a:lnSpc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i="1" lang="es-ES" sz="2000" spc="-1" strike="noStrike">
                <a:solidFill>
                  <a:srgbClr val="000066"/>
                </a:solidFill>
                <a:latin typeface="Verdana"/>
                <a:ea typeface="Times New Roman"/>
              </a:rPr>
              <a:t>Presidente ASE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9960" indent="-482760" algn="r">
              <a:lnSpc>
                <a:spcPct val="140000"/>
              </a:lnSpc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i="1" lang="es-ES" sz="2000" spc="-1" strike="noStrike" u="sng">
                <a:solidFill>
                  <a:srgbClr val="000066"/>
                </a:solidFill>
                <a:uFillTx/>
                <a:latin typeface="Verdana"/>
                <a:ea typeface="Times New Roman"/>
              </a:rPr>
              <a:t>Mayo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10400" y="108000"/>
            <a:ext cx="14511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05640"/>
            <a:ext cx="792468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ESTUDIO CETM 2006</a:t>
            </a:r>
            <a:br>
              <a:rPr sz="2800"/>
            </a:br>
            <a:r>
              <a:rPr b="1" lang="es-ES" sz="1800" spc="-1" strike="noStrike">
                <a:solidFill>
                  <a:srgbClr val="663300"/>
                </a:solidFill>
                <a:latin typeface="Verdana"/>
              </a:rPr>
              <a:t>IMPACTO APLICACIÓN DIRECTIVA</a:t>
            </a:r>
            <a:endParaRPr b="1" lang="en-US" sz="1800" spc="-1" strike="noStrike">
              <a:solidFill>
                <a:srgbClr val="6633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6400" y="1413000"/>
          <a:ext cx="785196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413000"/>
                    <a:ext cx="78519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581280" y="6095880"/>
            <a:ext cx="762120" cy="594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257800" y="6095880"/>
            <a:ext cx="762120" cy="581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7054920" y="6095880"/>
            <a:ext cx="5508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20800" y="4797360"/>
            <a:ext cx="1309680" cy="335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15.6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33600" y="4940280"/>
            <a:ext cx="1309680" cy="335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11.2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89600" y="5184720"/>
            <a:ext cx="1309680" cy="335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1.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16800" y="5084640"/>
            <a:ext cx="1309680" cy="335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3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308720" y="115920"/>
            <a:ext cx="1727280" cy="915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92720" y="1557360"/>
            <a:ext cx="295272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UDIO CE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er Premio PETRA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219320"/>
            <a:ext cx="8229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66"/>
                </a:solidFill>
                <a:uFillTx/>
                <a:latin typeface="Verdana"/>
              </a:rPr>
              <a:t>IMPACTO CUALIFICACIÓN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3048120"/>
            <a:ext cx="716292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2035080"/>
            <a:ext cx="7175520" cy="3603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43000" y="2057400"/>
            <a:ext cx="71629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32004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006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4941720"/>
            <a:ext cx="1368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6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77160" y="4149720"/>
            <a:ext cx="100800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77160" y="3603600"/>
            <a:ext cx="100800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5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727280" cy="915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ESTUDIO CETM 2006</a:t>
            </a:r>
            <a:br>
              <a:rPr sz="28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IMPACTO APLICACIÓN DIRECTIVA</a:t>
            </a:r>
            <a:endParaRPr b="1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410240" cy="37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71640" y="2206800"/>
            <a:ext cx="7391160" cy="3598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200400"/>
            <a:ext cx="739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4772160"/>
            <a:ext cx="739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9960" y="1434600"/>
            <a:ext cx="92199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66"/>
                </a:solidFill>
                <a:uFillTx/>
                <a:latin typeface="Verdana"/>
              </a:rPr>
              <a:t>IMPACTO FORMACIÓN CONTIN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5013360"/>
            <a:ext cx="1368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2.4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5800" y="4249800"/>
            <a:ext cx="100836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47000" y="3700440"/>
            <a:ext cx="1224000" cy="335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2.2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727280" cy="915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250560" y="289440"/>
            <a:ext cx="792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ESTUDIO CETM 2006</a:t>
            </a:r>
            <a:br>
              <a:rPr sz="28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IMPACTO APLICACIÓN DIRECTIVA</a:t>
            </a:r>
            <a:endParaRPr b="1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3000" y="1353960"/>
            <a:ext cx="8210520" cy="5338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4582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64911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5734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65440"/>
            <a:ext cx="1729080" cy="5806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"/>
              </a:rPr>
              <a:t>ESTUDIO CETM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6000" y="3943440"/>
            <a:ext cx="1908000" cy="334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1.681.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45160" y="6251400"/>
            <a:ext cx="2629080" cy="63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2.346.8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57960" y="4765680"/>
            <a:ext cx="1908360" cy="334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123.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64440" y="5541840"/>
            <a:ext cx="1908000" cy="335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Arial"/>
              </a:rPr>
              <a:t>542.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727280" cy="915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89440"/>
            <a:ext cx="792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ESTUDIO CETM 2006</a:t>
            </a:r>
            <a:br>
              <a:rPr sz="28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IMPACTO APLICACIÓN DIRECTIVA</a:t>
            </a:r>
            <a:endParaRPr b="1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1600200"/>
            <a:ext cx="7772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4327560"/>
            <a:ext cx="381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1341360"/>
            <a:ext cx="75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1er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SIS Y EVALUACIÓN CUALITATIV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IMPACTO DERIVADO DE LA TRANSPOSICIÓN DE LA DIRECTIVA 2003/59/C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77080" y="55440"/>
          <a:ext cx="226692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55440"/>
                    <a:ext cx="22669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3080" y="101520"/>
            <a:ext cx="2050920" cy="1003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2475000"/>
            <a:ext cx="8136000" cy="34480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ORTUNIDA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EDITA MODERNIZACIÓN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O LARGA DURACIÓN EN L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MAG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 AUTOIMA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FESIONALIZACIÓ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ASO “CAMIONERO” A CONDUCTOR PROFE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USENCIA DE INFORMACIÓ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CA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CESIDAD DE ABRIR U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BATE AMP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NISTERIO DE FOMEN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INTERLOCUTOR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O FORMATIVO 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ANDES DIMEN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CESIDA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GANO COORDINACIÓ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CESIDA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FERENTE FORMATIV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LIDER PEDAG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 C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OGIDA POSITIV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01600" y="649440"/>
            <a:ext cx="935280" cy="398880"/>
          </a:xfrm>
          <a:prstGeom prst="rect">
            <a:avLst/>
          </a:prstGeom>
          <a:solidFill>
            <a:srgbClr val="ec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62120" y="198720"/>
            <a:ext cx="568800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DIRECTIVA 2003/59/UE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EFECTOS PROFESIONALES </a:t>
            </a:r>
            <a:br>
              <a:rPr sz="2000"/>
            </a:br>
            <a:r>
              <a:rPr b="1" lang="es-ES" sz="2000" spc="-1" strike="noStrike">
                <a:solidFill>
                  <a:srgbClr val="663300"/>
                </a:solidFill>
                <a:latin typeface="Verdana"/>
              </a:rPr>
              <a:t>Y ECONÓMICOS</a:t>
            </a:r>
            <a:endParaRPr b="1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250920" y="2276640"/>
            <a:ext cx="3726720" cy="1512360"/>
            <a:chOff x="250920" y="2276640"/>
            <a:chExt cx="3726720" cy="1512360"/>
          </a:xfrm>
        </p:grpSpPr>
        <p:sp>
          <p:nvSpPr>
            <p:cNvPr id="205" name=""/>
            <p:cNvSpPr/>
            <p:nvPr/>
          </p:nvSpPr>
          <p:spPr>
            <a:xfrm>
              <a:off x="336240" y="2373120"/>
              <a:ext cx="3641400" cy="1415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0920" y="2276640"/>
              <a:ext cx="3641400" cy="1415880"/>
            </a:xfrm>
            <a:prstGeom prst="ellipse">
              <a:avLst/>
            </a:prstGeom>
            <a:solidFill>
              <a:srgbClr val="d9ff6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24000" y="1409760"/>
            <a:ext cx="842472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cc"/>
                </a:solidFill>
                <a:latin typeface="Verdana"/>
              </a:rPr>
              <a:t>PROPUESTAS 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1079640" cy="1069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78760" y="2565360"/>
            <a:ext cx="25002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OCUPACIONAL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8040" y="4005360"/>
            <a:ext cx="8613720" cy="99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1. REDEFINIR DENTRO DEL CATÁLOGO NACIONAL DE CUALIF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FAMILIA PROFESIONAL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243200">
            <a:off x="3851280" y="2852280"/>
            <a:ext cx="2521080" cy="792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19173"/>
                <a:lnTo>
                  <a:pt x="0" y="10860"/>
                </a:lnTo>
                <a:arcTo wR="10800" hR="10800" stAng="10780827" swAng="1081917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" y="5241960"/>
            <a:ext cx="8613720" cy="99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2. REFORMA URGENTE DE LAS ESPECIALIDADES DE FP PARA EL EMP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CONDUCCIÓN VEHÍCUL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6555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LGUNAS IDEAS …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50920" y="2276640"/>
            <a:ext cx="3726720" cy="1512360"/>
            <a:chOff x="250920" y="2276640"/>
            <a:chExt cx="3726720" cy="1512360"/>
          </a:xfrm>
        </p:grpSpPr>
        <p:sp>
          <p:nvSpPr>
            <p:cNvPr id="215" name=""/>
            <p:cNvSpPr/>
            <p:nvPr/>
          </p:nvSpPr>
          <p:spPr>
            <a:xfrm>
              <a:off x="336240" y="2373120"/>
              <a:ext cx="3641400" cy="1415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0920" y="2276640"/>
              <a:ext cx="3641400" cy="1415880"/>
            </a:xfrm>
            <a:prstGeom prst="ellipse">
              <a:avLst/>
            </a:prstGeom>
            <a:solidFill>
              <a:srgbClr val="d9ff6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4000" y="1409760"/>
            <a:ext cx="842472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cc"/>
                </a:solidFill>
                <a:latin typeface="Verdana"/>
              </a:rPr>
              <a:t>PROPUESTAS 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1079640" cy="1069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081080" y="2565360"/>
            <a:ext cx="20934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REGLAD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8040" y="4005360"/>
            <a:ext cx="8613720" cy="99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1. REFORMA DEL TÍTULO DE FORMACIÓN PROFE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GRADO SUPERIOR GESTIÓN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243200">
            <a:off x="3851280" y="2852280"/>
            <a:ext cx="2521080" cy="792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19173"/>
                <a:lnTo>
                  <a:pt x="0" y="10860"/>
                </a:lnTo>
                <a:arcTo wR="10800" hR="10800" stAng="10780827" swAng="1081917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2440" y="5241960"/>
            <a:ext cx="8613720" cy="99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2. DISEÑO Y CREACIÓN UN NUEVO CICLO FORM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GRADO MEDIO CONDUCCIÓN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6555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LGUNAS IDEAS …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50920" y="2276640"/>
            <a:ext cx="3726720" cy="1512360"/>
            <a:chOff x="250920" y="2276640"/>
            <a:chExt cx="3726720" cy="1512360"/>
          </a:xfrm>
        </p:grpSpPr>
        <p:sp>
          <p:nvSpPr>
            <p:cNvPr id="225" name=""/>
            <p:cNvSpPr/>
            <p:nvPr/>
          </p:nvSpPr>
          <p:spPr>
            <a:xfrm>
              <a:off x="336240" y="2373120"/>
              <a:ext cx="3641400" cy="1415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0920" y="2276640"/>
              <a:ext cx="3641400" cy="1415880"/>
            </a:xfrm>
            <a:prstGeom prst="ellipse">
              <a:avLst/>
            </a:prstGeom>
            <a:solidFill>
              <a:srgbClr val="d9ff6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1409760"/>
            <a:ext cx="8424720" cy="581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cc"/>
                </a:solidFill>
                <a:latin typeface="Verdana"/>
              </a:rPr>
              <a:t>PROPUESTAS 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1079640" cy="1069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081080" y="2565360"/>
            <a:ext cx="20934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CONTINUA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8040" y="4005360"/>
            <a:ext cx="8613720" cy="99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1. ORIENTACION DE LOS FONDOS FUNDACIÓN FORM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FORMACIÓN CONTINUA CONDU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243200">
            <a:off x="3851280" y="2852280"/>
            <a:ext cx="2521080" cy="792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19173"/>
                <a:lnTo>
                  <a:pt x="0" y="10860"/>
                </a:lnTo>
                <a:arcTo wR="10800" hR="10800" stAng="10780827" swAng="1081917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2440" y="5241960"/>
            <a:ext cx="8613720" cy="99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2. INTEGRACIÓN FORMACIÓN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Verdana"/>
              </a:rPr>
              <a:t>ORIENTACIÓN PLAN DE AYUDAS A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6555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LGUNAS IDEAS …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92160" y="2711520"/>
            <a:ext cx="703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33cc"/>
                </a:solidFill>
                <a:latin typeface="Arial Narrow"/>
              </a:rPr>
              <a:t>Muchas gracias po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33cc"/>
                </a:solidFill>
                <a:latin typeface="Arial Narrow"/>
              </a:rPr>
              <a:t>su aten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3920"/>
            <a:ext cx="604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663300"/>
                </a:solidFill>
                <a:latin typeface="Verdana"/>
              </a:rPr>
              <a:t>JORNADA TÉCNICA</a:t>
            </a:r>
            <a:endParaRPr b="1" lang="en-US" sz="3600" spc="-1" strike="noStrike">
              <a:solidFill>
                <a:srgbClr val="663300"/>
              </a:solidFill>
              <a:latin typeface="Verdana"/>
            </a:endParaRPr>
          </a:p>
        </p:txBody>
      </p:sp>
      <p:pic>
        <p:nvPicPr>
          <p:cNvPr id="2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10400" y="108000"/>
            <a:ext cx="1451160" cy="941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5157720"/>
            <a:ext cx="145080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8120" y="2181240"/>
            <a:ext cx="0" cy="434340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6200" y="1519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SITUACIÓN FUTURA</a:t>
            </a:r>
            <a:br>
              <a:rPr sz="2800"/>
            </a:b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124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cceso Profesión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8954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24000" y="3068640"/>
            <a:ext cx="8474040" cy="1181160"/>
            <a:chOff x="324000" y="3068640"/>
            <a:chExt cx="8474040" cy="1181160"/>
          </a:xfrm>
        </p:grpSpPr>
        <p:sp>
          <p:nvSpPr>
            <p:cNvPr id="106" name=""/>
            <p:cNvSpPr/>
            <p:nvPr/>
          </p:nvSpPr>
          <p:spPr>
            <a:xfrm>
              <a:off x="1330200" y="3195720"/>
              <a:ext cx="1600200" cy="916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btención Carné Conduc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2720" y="3164040"/>
              <a:ext cx="1447920" cy="99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nductor</a:t>
              </a:r>
              <a:br>
                <a:rPr sz="1800"/>
              </a:b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fes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24000" y="3068640"/>
              <a:ext cx="388800" cy="11811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9" name=""/>
            <p:cNvCxnSpPr>
              <a:stCxn id="108" idx="3"/>
              <a:endCxn id="106" idx="1"/>
            </p:cNvCxnSpPr>
            <p:nvPr/>
          </p:nvCxnSpPr>
          <p:spPr>
            <a:xfrm>
              <a:off x="712440" y="3658680"/>
              <a:ext cx="6181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sm" type="triangle" w="sm"/>
            </a:ln>
          </p:spPr>
        </p:cxnSp>
        <p:sp>
          <p:nvSpPr>
            <p:cNvPr id="110" name=""/>
            <p:cNvSpPr/>
            <p:nvPr/>
          </p:nvSpPr>
          <p:spPr>
            <a:xfrm>
              <a:off x="3235320" y="3195720"/>
              <a:ext cx="1600200" cy="980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66"/>
                  </a:solidFill>
                  <a:latin typeface="Arial"/>
                </a:rPr>
                <a:t>Cualific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66"/>
                  </a:solidFill>
                  <a:latin typeface="Arial"/>
                </a:rPr>
                <a:t>In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66"/>
                  </a:solidFill>
                  <a:latin typeface="Arial"/>
                </a:rPr>
                <a:t>Obligato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50120" y="3164040"/>
              <a:ext cx="1447920" cy="990360"/>
            </a:xfrm>
            <a:prstGeom prst="flowChartMultidocumen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Arial"/>
                </a:rPr>
                <a:t>Formación </a:t>
              </a:r>
              <a:br>
                <a:rPr sz="1600"/>
              </a:br>
              <a:r>
                <a:rPr b="1" lang="es-ES" sz="1600" spc="-1" strike="noStrike">
                  <a:solidFill>
                    <a:srgbClr val="3333cc"/>
                  </a:solidFill>
                  <a:latin typeface="Arial"/>
                </a:rPr>
                <a:t>Continu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06" idx="3"/>
              <a:endCxn id="110" idx="1"/>
            </p:cNvCxnSpPr>
            <p:nvPr/>
          </p:nvCxnSpPr>
          <p:spPr>
            <a:xfrm>
              <a:off x="2930040" y="3658680"/>
              <a:ext cx="3056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sm" type="triangle" w="sm"/>
            </a:ln>
          </p:spPr>
        </p:cxnSp>
        <p:cxnSp>
          <p:nvCxnSpPr>
            <p:cNvPr id="113" name=""/>
            <p:cNvCxnSpPr>
              <a:stCxn id="110" idx="3"/>
              <a:endCxn id="107" idx="1"/>
            </p:cNvCxnSpPr>
            <p:nvPr/>
          </p:nvCxnSpPr>
          <p:spPr>
            <a:xfrm>
              <a:off x="4835520" y="3658680"/>
              <a:ext cx="4579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sm" type="triangle" w="sm"/>
            </a:ln>
          </p:spPr>
        </p:cxnSp>
        <p:cxnSp>
          <p:nvCxnSpPr>
            <p:cNvPr id="114" name=""/>
            <p:cNvCxnSpPr>
              <a:stCxn id="107" idx="3"/>
              <a:endCxn id="111" idx="1"/>
            </p:cNvCxnSpPr>
            <p:nvPr/>
          </p:nvCxnSpPr>
          <p:spPr>
            <a:xfrm>
              <a:off x="6740280" y="3658680"/>
              <a:ext cx="61020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  <a:tailEnd len="sm" type="triangle" w="sm"/>
            </a:ln>
          </p:spPr>
        </p:cxnSp>
      </p:grpSp>
      <p:sp>
        <p:nvSpPr>
          <p:cNvPr id="115" name=""/>
          <p:cNvSpPr/>
          <p:nvPr/>
        </p:nvSpPr>
        <p:spPr>
          <a:xfrm>
            <a:off x="2622600" y="5718600"/>
            <a:ext cx="6629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3300"/>
                </a:solidFill>
                <a:latin typeface="Verdana"/>
              </a:rPr>
              <a:t>DIRECTIVA FORMACIÓN CONDUCTORES PROFES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3300"/>
                </a:solidFill>
                <a:latin typeface="Verdana"/>
              </a:rPr>
              <a:t>Real Decreto “Formación Conductores Profesionales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76400" y="4797360"/>
            <a:ext cx="2379600" cy="531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cc"/>
                </a:solidFill>
                <a:latin typeface="Verdana"/>
              </a:rPr>
              <a:t>10/09/2008  Viajeros    10/09/2009  Mercanc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2060640"/>
            <a:ext cx="1776600" cy="815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54040" y="2421000"/>
            <a:ext cx="1843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635280" y="1989000"/>
          <a:ext cx="838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1989000"/>
                    <a:ext cx="838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780000" y="220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Times New Roman"/>
              </a:rPr>
              <a:t>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80440" y="4427640"/>
            <a:ext cx="1195200" cy="92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Verdana"/>
              </a:rPr>
              <a:t>2011-201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Verdana"/>
              </a:rPr>
              <a:t>Viaj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Verdana"/>
              </a:rPr>
              <a:t>2012-201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66"/>
                </a:solidFill>
                <a:latin typeface="Verdana"/>
              </a:rPr>
              <a:t>Mercancí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027280" y="4005360"/>
            <a:ext cx="144360" cy="431640"/>
          </a:xfrm>
          <a:prstGeom prst="downArrow">
            <a:avLst>
              <a:gd name="adj1" fmla="val 50000"/>
              <a:gd name="adj2" fmla="val 7475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15720"/>
            <a:ext cx="6890040" cy="7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DIRECTIVA 2003/59/UE</a:t>
            </a:r>
            <a:br>
              <a:rPr sz="2800"/>
            </a:br>
            <a:r>
              <a:rPr b="1" lang="es-ES" sz="1400" spc="-1" strike="noStrike">
                <a:solidFill>
                  <a:srgbClr val="663300"/>
                </a:solidFill>
                <a:latin typeface="Verdana"/>
              </a:rPr>
              <a:t>REAL DECRETO </a:t>
            </a:r>
            <a:br>
              <a:rPr sz="1400"/>
            </a:br>
            <a:r>
              <a:rPr b="1" lang="es-ES" sz="1400" spc="-1" strike="noStrike">
                <a:solidFill>
                  <a:srgbClr val="663300"/>
                </a:solidFill>
                <a:latin typeface="Verdana"/>
              </a:rPr>
              <a:t>“FORMACIÓN CONDUCTORES PROFESIONALES“</a:t>
            </a:r>
            <a:endParaRPr b="1" lang="en-US" sz="14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76320" y="1676160"/>
            <a:ext cx="922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OBJETO - ÁMBITO DE APL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La actividad de conducción por vías públicas requerirá que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el conductor haya obtenido el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ertificado de Aptitud profesional (CAP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>
              <a:spcBef>
                <a:spcPts val="451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125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Verdana"/>
              </a:rPr>
              <a:t>Mercancías:   </a:t>
            </a:r>
            <a:r>
              <a:rPr b="1" lang="es-ES_tradnl" sz="3600" spc="-1" strike="noStrike">
                <a:solidFill>
                  <a:srgbClr val="000066"/>
                </a:solidFill>
                <a:latin typeface="Verdana"/>
              </a:rPr>
              <a:t>C1</a:t>
            </a: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1" lang="es-ES_tradnl" sz="3600" spc="-1" strike="noStrike">
                <a:solidFill>
                  <a:srgbClr val="000066"/>
                </a:solidFill>
                <a:latin typeface="Verdana"/>
              </a:rPr>
              <a:t>C1+E</a:t>
            </a: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1" lang="es-ES_tradnl" sz="36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1" lang="es-ES_tradnl" sz="3600" spc="-1" strike="noStrike">
                <a:solidFill>
                  <a:srgbClr val="000066"/>
                </a:solidFill>
                <a:latin typeface="Verdana"/>
              </a:rPr>
              <a:t>C+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>
              <a:spcBef>
                <a:spcPts val="850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_tradnl" sz="29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1" lang="es-ES_tradnl" sz="29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1" lang="es-ES_tradnl" sz="3400" spc="-1" strike="noStrike">
                <a:solidFill>
                  <a:srgbClr val="000000"/>
                </a:solidFill>
                <a:latin typeface="Verdana"/>
              </a:rPr>
              <a:t>Viajeros:   </a:t>
            </a:r>
            <a:r>
              <a:rPr b="1" lang="es-ES_tradnl" sz="3400" spc="-1" strike="noStrike">
                <a:solidFill>
                  <a:srgbClr val="ff3300"/>
                </a:solidFill>
                <a:latin typeface="Verdana"/>
              </a:rPr>
              <a:t>D1</a:t>
            </a:r>
            <a:r>
              <a:rPr b="1" lang="es-ES_tradnl" sz="34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1" lang="es-ES_tradnl" sz="3400" spc="-1" strike="noStrike">
                <a:solidFill>
                  <a:srgbClr val="ff3300"/>
                </a:solidFill>
                <a:latin typeface="Verdana"/>
              </a:rPr>
              <a:t>D1+E</a:t>
            </a:r>
            <a:r>
              <a:rPr b="1" lang="es-ES_tradnl" sz="34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1" lang="es-ES_tradnl" sz="3400" spc="-1" strike="noStrike">
                <a:solidFill>
                  <a:srgbClr val="ff3300"/>
                </a:solidFill>
                <a:latin typeface="Verdana"/>
              </a:rPr>
              <a:t>D</a:t>
            </a:r>
            <a:r>
              <a:rPr b="1" lang="es-ES_tradnl" sz="34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1" lang="es-ES_tradnl" sz="3400" spc="-1" strike="noStrike">
                <a:solidFill>
                  <a:srgbClr val="ff3300"/>
                </a:solidFill>
                <a:latin typeface="Verdana"/>
              </a:rPr>
              <a:t>D+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>
              <a:spcBef>
                <a:spcPts val="850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spcBef>
                <a:spcPts val="451"/>
              </a:spcBef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Verdana"/>
              </a:rPr>
              <a:t>(Ver exencion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00800" y="5638680"/>
            <a:ext cx="1143000" cy="871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11430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CAP acreditativo de la cualificación inicial</a:t>
            </a: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71800" y="2155680"/>
            <a:ext cx="4724640" cy="74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42" y="23113"/>
                </a:moveTo>
                <a:lnTo>
                  <a:pt x="-348" y="3213"/>
                </a:lnTo>
              </a:path>
              <a:path w="21600" h="21600">
                <a:moveTo>
                  <a:pt x="-348" y="0"/>
                </a:moveTo>
                <a:lnTo>
                  <a:pt x="-348" y="21600"/>
                </a:lnTo>
              </a:path>
            </a:pathLst>
          </a:custGeom>
          <a:solidFill>
            <a:srgbClr val="66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imes New Roman"/>
              </a:rPr>
              <a:t>280 </a:t>
            </a:r>
            <a:r>
              <a:rPr b="1" lang="es-ES_tradnl" sz="1800" spc="-1" strike="noStrike">
                <a:solidFill>
                  <a:srgbClr val="003300"/>
                </a:solidFill>
                <a:latin typeface="Times New Roman"/>
              </a:rPr>
              <a:t>horas.  Contenido: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aterias del anexo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es-ES_tradnl" sz="1600" spc="-1" strike="noStrike">
                <a:solidFill>
                  <a:srgbClr val="003300"/>
                </a:solidFill>
                <a:latin typeface="Times New Roman"/>
              </a:rPr>
              <a:t>20 h. cond.  (8 h. Simulador o terreno espe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3645000"/>
            <a:ext cx="472428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15" y="-11554"/>
                </a:moveTo>
                <a:lnTo>
                  <a:pt x="-348" y="2859"/>
                </a:lnTo>
              </a:path>
              <a:path w="21600" h="21600">
                <a:moveTo>
                  <a:pt x="-348" y="0"/>
                </a:moveTo>
                <a:lnTo>
                  <a:pt x="-348" y="21600"/>
                </a:lnTo>
              </a:path>
            </a:pathLst>
          </a:custGeom>
          <a:solidFill>
            <a:srgbClr val="cc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Times New Roman"/>
              </a:rPr>
              <a:t>140 </a:t>
            </a:r>
            <a:r>
              <a:rPr b="1" lang="es-ES_tradnl" sz="1800" spc="-1" strike="noStrike">
                <a:solidFill>
                  <a:srgbClr val="333300"/>
                </a:solidFill>
                <a:latin typeface="Times New Roman"/>
              </a:rPr>
              <a:t>horas.  Contenido: </a:t>
            </a:r>
            <a:r>
              <a:rPr b="0" lang="es-ES" sz="1600" spc="-1" strike="noStrike">
                <a:solidFill>
                  <a:srgbClr val="333300"/>
                </a:solidFill>
                <a:latin typeface="Times New Roman"/>
              </a:rPr>
              <a:t>Materias del anexo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10 h. cond.  (4 h. Simulador o terreno espe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76520"/>
            <a:ext cx="3200400" cy="45781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Cur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En Centro de Formación Autoriz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Times New Roman"/>
              </a:rPr>
              <a:t>Autoridad Competente o Entidad deleg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5589720"/>
            <a:ext cx="1728720" cy="47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030" y="8784"/>
                </a:moveTo>
                <a:lnTo>
                  <a:pt x="-952" y="5184"/>
                </a:lnTo>
              </a:path>
              <a:path w="21600" h="21600">
                <a:moveTo>
                  <a:pt x="-952" y="0"/>
                </a:moveTo>
                <a:lnTo>
                  <a:pt x="-952" y="21600"/>
                </a:ln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Escrito u 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1752480"/>
            <a:ext cx="355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Times New Roman"/>
              </a:rPr>
              <a:t>CUALIFICACIÓN INICIAL ORDIN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40360" y="32688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00"/>
                </a:solidFill>
                <a:latin typeface="Times New Roman"/>
              </a:rPr>
              <a:t>CUALIFICACIÓN INICIAL ACELE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6200" y="18720"/>
            <a:ext cx="61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CUALIFICACIÓN INICIAL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 </a:t>
            </a:r>
            <a:br>
              <a:rPr sz="1800"/>
            </a:br>
            <a:r>
              <a:rPr b="1" lang="en-US" sz="1600" spc="-1" strike="noStrike">
                <a:solidFill>
                  <a:srgbClr val="663300"/>
                </a:solidFill>
                <a:latin typeface="Verdana"/>
              </a:rPr>
              <a:t>(MERCANCÍAS - VIAJEROS)</a:t>
            </a:r>
            <a:endParaRPr b="1" lang="en-US" sz="1600" spc="-1" strike="noStrike">
              <a:solidFill>
                <a:srgbClr val="6633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244000" y="3301920"/>
            <a:ext cx="900000" cy="701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44000" y="5396040"/>
            <a:ext cx="865080" cy="658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460440"/>
            <a:ext cx="221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360440"/>
          <a:ext cx="8207280" cy="549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360440"/>
                    <a:ext cx="820728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17604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UALIFICACIÓN INICIAL Y 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RMACIÓN CONTINUA</a:t>
            </a:r>
            <a:endParaRPr b="1" lang="en-US" sz="32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Verdana"/>
              </a:rPr>
              <a:t>CENTROS AUTORIZA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OR LAS ADMINISTRACIONES PÚBLICAS COMPETE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4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Verdana"/>
              </a:rPr>
              <a:t>AUTORIZA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VISADO QUINQUENAL</a:t>
            </a:r>
            <a:r>
              <a:rPr b="1" lang="en-US" sz="1700" spc="-1" strike="noStrike">
                <a:solidFill>
                  <a:srgbClr val="0000cc"/>
                </a:solidFill>
                <a:latin typeface="Verdana"/>
              </a:rPr>
              <a:t> (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LUGAR VISI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VARIOS CENTROS: AUTORIZACIÓN PARA CADA UN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3933720"/>
            <a:ext cx="856944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Verdana"/>
              </a:rPr>
              <a:t>CURSOS HOMOLOG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Verdana"/>
              </a:rPr>
              <a:t>POR EL ÓRGANO ADMINISTRATIVO QUE AUTORIZO EL CE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VALIDEZ DE LA HOMOLOGACIÓN: 5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COMUNICAR CADA CURSO CON 10 DÍAS DE ANT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(Variaciones-cambios: Notificación Vía Telemát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668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EXÁMENES CAP</a:t>
            </a:r>
            <a:br>
              <a:rPr sz="2800"/>
            </a:br>
            <a:r>
              <a:rPr b="1" lang="en-US" sz="2000" spc="-1" strike="noStrike">
                <a:solidFill>
                  <a:srgbClr val="663300"/>
                </a:solidFill>
                <a:latin typeface="Verdana"/>
              </a:rPr>
              <a:t>CUALIFICACIÓN INICIAL</a:t>
            </a:r>
            <a:br>
              <a:rPr sz="1600"/>
            </a:br>
            <a:endParaRPr b="1" lang="en-US" sz="20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16640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904680" indent="0" algn="ctr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CONVOCATORI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REALIZADAS por las CCAA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(Transport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En el “Boletín Oficial” - </a:t>
            </a:r>
            <a:r>
              <a:rPr b="1" lang="en-US" sz="1700" spc="-1" strike="noStrike">
                <a:solidFill>
                  <a:srgbClr val="ff3300"/>
                </a:solidFill>
                <a:latin typeface="Verdana"/>
              </a:rPr>
              <a:t>AL MENOS 6 VECES AL AÑ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nuncio con 1 mes antelación (15 días plazo inscripció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Verdana"/>
              </a:rPr>
              <a:t>PODRÁN CONVOCARSE PRUEBAS ESPECÍFICAS (CENTRO concreto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Verdana"/>
              </a:rPr>
              <a:t>LOS ASPIRANTES SE PRESENTAN RESIDENCIA HABITU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Verdana"/>
              </a:rPr>
              <a:t>CERTIFICADOS CAP               REGISTRO GENERAL TRANPORTIST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4680" indent="0" algn="ctr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cc"/>
                </a:solidFill>
                <a:latin typeface="Verdana"/>
              </a:rPr>
              <a:t>                                          </a:t>
            </a:r>
            <a:r>
              <a:rPr b="1" lang="en-US" sz="1700" spc="-1" strike="noStrike">
                <a:solidFill>
                  <a:srgbClr val="ff3300"/>
                </a:solidFill>
                <a:latin typeface="Verdana"/>
              </a:rPr>
              <a:t>(TARJETA CONDUCTOR CAP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3362400" y="6265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324000" y="1219320"/>
            <a:ext cx="9468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2200" spc="-1" strike="noStrike">
                <a:solidFill>
                  <a:srgbClr val="000066"/>
                </a:solidFill>
                <a:latin typeface="Verdana"/>
                <a:ea typeface="Times New Roman"/>
              </a:rPr>
              <a:t>COMPETENCIAS ADMINISTRACIÓN TRANSPOR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Ministerio de Fomento – CCA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2200" spc="-1" strike="noStrike">
                <a:solidFill>
                  <a:srgbClr val="000066"/>
                </a:solidFill>
                <a:latin typeface="Verdana"/>
                <a:ea typeface="Times New Roman"/>
              </a:rPr>
              <a:t>CURSOS CUALIFICACIÓN INICIAL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Posibilitan el CAP +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Verdana"/>
                <a:ea typeface="Times New Roman"/>
              </a:rPr>
              <a:t>PERMISO</a:t>
            </a:r>
            <a:r>
              <a:rPr b="1" lang="es-E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 +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Verdana"/>
                <a:ea typeface="Times New Roman"/>
              </a:rPr>
              <a:t>ADR BÁSICO</a:t>
            </a:r>
            <a:r>
              <a:rPr b="1" lang="es-E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 +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Verdana"/>
                <a:ea typeface="Times New Roman"/>
              </a:rPr>
              <a:t>ADR CISTERN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2200" spc="-1" strike="noStrike">
                <a:solidFill>
                  <a:srgbClr val="000066"/>
                </a:solidFill>
                <a:latin typeface="Verdana"/>
                <a:ea typeface="Times New Roman"/>
              </a:rPr>
              <a:t>CURSOS FORMACIÓN CONTINU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Posibilitan la Renovación CAP + </a:t>
            </a:r>
            <a:r>
              <a:rPr b="1" lang="es-ES" sz="1600" spc="-1" strike="noStrike" u="sng">
                <a:solidFill>
                  <a:srgbClr val="ff3300"/>
                </a:solidFill>
                <a:uFillTx/>
                <a:latin typeface="Verdana"/>
                <a:ea typeface="Times New Roman"/>
              </a:rPr>
              <a:t>RECUPERACIÓN DE PU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2200" spc="-1" strike="noStrike">
                <a:solidFill>
                  <a:srgbClr val="000066"/>
                </a:solidFill>
                <a:latin typeface="Verdana"/>
                <a:ea typeface="Times New Roman"/>
              </a:rPr>
              <a:t>COMISIÓN ESTATAL DE FORMACIÓN CONTINU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Orientación de Fondos Formación Continu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2200" spc="-1" strike="noStrike">
                <a:solidFill>
                  <a:srgbClr val="000066"/>
                </a:solidFill>
                <a:latin typeface="Verdana"/>
                <a:ea typeface="Times New Roman"/>
              </a:rPr>
              <a:t>PROTAGONISTAS DE LA NOR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39960" indent="0" algn="ctr">
              <a:lnSpc>
                <a:spcPct val="140000"/>
              </a:lnSpc>
              <a:buNone/>
              <a:tabLst>
                <a:tab algn="l" pos="0"/>
                <a:tab algn="l" pos="285768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  <a:tab algn="l" pos="5867280"/>
                <a:tab algn="l" pos="6146640"/>
                <a:tab algn="l" pos="6426360"/>
                <a:tab algn="l" pos="6705720"/>
                <a:tab algn="l" pos="6985080"/>
                <a:tab algn="l" pos="7264440"/>
                <a:tab algn="l" pos="7543800"/>
                <a:tab algn="l" pos="7823160"/>
                <a:tab algn="l" pos="8102520"/>
                <a:tab algn="l" pos="838188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Verdana"/>
                <a:ea typeface="Times New Roman"/>
              </a:rPr>
              <a:t>EMPRESAS Y TRABAJADO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443880"/>
            <a:ext cx="6745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ASPECTOS RELEVANTES</a:t>
            </a: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61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Verdana"/>
              </a:rPr>
              <a:t>PROGRAMA DE LOS CURSOS</a:t>
            </a:r>
            <a:endParaRPr b="1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632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Verdana"/>
              </a:rPr>
              <a:t>Tres grandes bloques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Formación avanzada sobre conducción racional basada en las normas de segurida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plicación de la reglamenta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.  Salud, seguridad vial y medioambiental, servicio, logístic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1T18:19:06Z</dcterms:created>
  <dc:creator>Miguel Martínez de Lizarrondo</dc:creator>
  <dc:description/>
  <dc:language>en-US</dc:language>
  <cp:lastModifiedBy>mmlizarrondo</cp:lastModifiedBy>
  <cp:lastPrinted>2001-11-28T11:11:07Z</cp:lastPrinted>
  <dcterms:modified xsi:type="dcterms:W3CDTF">2008-05-13T07:34:10Z</dcterms:modified>
  <cp:revision>354</cp:revision>
  <dc:subject/>
  <dc:title>RD - Dir 2003/59/UE</dc:title>
</cp:coreProperties>
</file>