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228600" y="228600"/>
          <a:ext cx="12114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12114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060640" y="1397160"/>
          <a:ext cx="50212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1397160"/>
                    <a:ext cx="50212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7524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71640"/>
            <a:ext cx="88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erfil de demandantes de empleo (NOVIEMBRE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 formativ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 57,17% son graduados en Secundaria, el 18,99% poseen formación profesional de Grado Superior, el 5,73% de Grado Medio, el 10,08% Bachillerato y el 4,6% restante son universi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xo: el 89,0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 hombres y 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,9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 muj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a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 18,94% de los demandantes de empleo son menores de 25 años, el 44,20% están entre 25 y 45 años y el 38,86% son mayores de 4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pacion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 mayor número de inscritos son las de Fundidor, Delineante, Carpintero Metálico, Calderero Industrial y Montador de Grandes Estructuras Metá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05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49800" y="69228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E ESTUDIO OCUPACIONAL DEL SECTOR DEL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 EL PRINCIPADO DE ASTURIAS. SERVICIO PUBLIC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05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9800" y="69228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E ESTUDIO OCUPACIONAL DEL SECTOR DEL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 EL PRINCIPADO DE ASTURIAS. SERVICIO PUBLIC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853640"/>
            <a:ext cx="8388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DERERO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BERO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PINTERO METÁLICO Y PV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ADOR/MANTENEDOR DE CONSTRUCCIONES METÁL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D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ADOR OPERADOR RECUBRIMIENTOS METÁL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IDOR/MOLDE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JUSTADOR MECÁNICO / TORNERO FRES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YECTISTA MECÁN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ADOR DE MÁQU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ADOR INSTALADOR DE MÁQUINAS Y EQUIPOS INDUSTR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ÁNICO REPAR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ECÁNICO DE MANTEN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RICERO MOLDI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ÉCNICO PROYECTI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ÉCNICO DE FABR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ÉCNICO EN CONSTRUCCIONES METÁL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ÉCNICO DE MANTENIMIENTO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59240"/>
            <a:ext cx="88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SGOS PSICOMET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és por el propio progreso y el mejor desempeño en 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5240" y="691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IL DE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00280"/>
            <a:ext cx="71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ON PROFESIONAL (rama mecánica, herramientas o me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sos de Formación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0520" y="6912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LU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70028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RRICULUM VIT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RVICIO PUBLICO DE EMPLEO: TRABAJAST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TROS DE FORMACION PROFESIONAL (f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OS CENTROS DE 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4:59:42Z</dcterms:created>
  <dc:creator>Juan Lucas Garcia</dc:creator>
  <dc:description/>
  <dc:language>en-US</dc:language>
  <cp:lastModifiedBy>Manuel</cp:lastModifiedBy>
  <cp:lastPrinted>2002-05-06T13:44:00Z</cp:lastPrinted>
  <dcterms:modified xsi:type="dcterms:W3CDTF">2008-05-14T09:20:09Z</dcterms:modified>
  <cp:revision>32</cp:revision>
  <dc:subject/>
  <dc:title>Presentación de PowerPoint</dc:title>
</cp:coreProperties>
</file>