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D0F-96ED-45E5-889C-FCE4D758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CF3-D5F8-43D4-9779-D328931C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3A7-25A7-42EA-BB59-E91F490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9EC-B78F-4136-922B-F12E28B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15B-9ACE-4194-91F3-0FD1677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99F-5163-4AB4-99D2-583F3EE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627-14B4-409C-A23B-7739ADF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28F-58B7-4EFB-B5CD-CAF7CC9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B27-14B6-4841-8BDF-A474023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C9C-EF1F-4EFC-B2DB-9E5C5DDB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D80-45FD-4419-91CA-C1A69C3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3A8-A09E-4E82-9188-49B544F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C7E-B9E2-4F0C-9C0F-1FA141C0DD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620640"/>
          <a:ext cx="82803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20640"/>
                    <a:ext cx="8280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81120"/>
            <a:ext cx="8642160" cy="506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180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996840"/>
            <a:ext cx="7991280" cy="50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497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9780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47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3295800"/>
            <a:ext cx="5724360" cy="3562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738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731880"/>
            <a:ext cx="8280360" cy="520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4000" cy="495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322200"/>
            <a:ext cx="8317080" cy="653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39720"/>
            <a:ext cx="8229600" cy="511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06:54Z</dcterms:created>
  <dc:creator>TERESAG</dc:creator>
  <dc:description/>
  <dc:language>en-US</dc:language>
  <cp:lastModifiedBy>TERESAG</cp:lastModifiedBy>
  <dcterms:modified xsi:type="dcterms:W3CDTF">2008-05-14T15:21:54Z</dcterms:modified>
  <cp:revision>11</cp:revision>
  <dc:subject/>
  <dc:title>Diapositiva 1</dc:title>
</cp:coreProperties>
</file>