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4.gif" ContentType="image/gif"/>
  <Override PartName="/ppt/media/image1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gif" ContentType="image/gif"/>
  <Override PartName="/ppt/media/image12.gif" ContentType="image/gif"/>
  <Override PartName="/ppt/media/image8.wmf" ContentType="image/x-wmf"/>
  <Override PartName="/ppt/media/image10.gif" ContentType="image/gif"/>
  <Override PartName="/ppt/media/image9.wmf" ContentType="image/x-wmf"/>
  <Override PartName="/ppt/media/image3.png" ContentType="image/pn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1B2F4-6022-48E1-8CC9-7C1BC268DC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489C3-8A72-4695-83AD-E10CD39FD6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77071-C8C6-432B-ACE9-82E3AB2680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0B23F-59B7-40AF-8A72-43C5B64AD5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753B4-43F9-4AAF-A86C-0E46740CED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6BF45-B8A0-4D1A-B78D-CB7012E3EB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38668-EDBA-44C2-90BC-80A1369E50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077A4-1DE5-4710-82FD-1D032EEE11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965B3-379D-455C-AE9B-7063E8F04C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6FAA3-A35F-4909-A5EE-447008E043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BFEE0-0518-455E-9CB3-33A78AEE84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7ACF5-227F-4043-8006-1867354690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9327960" y="6545160"/>
            <a:ext cx="577800" cy="2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E5EE-288A-4429-9BFA-C9194BE335F3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0" t="-7556" r="0" b="5145"/>
          <a:stretch/>
        </p:blipFill>
        <p:spPr>
          <a:xfrm>
            <a:off x="0" y="5892840"/>
            <a:ext cx="1285920" cy="96516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rcRect l="48569" t="42544" r="34104" b="56564"/>
          <a:stretch/>
        </p:blipFill>
        <p:spPr>
          <a:xfrm>
            <a:off x="1249200" y="6165720"/>
            <a:ext cx="8696520" cy="44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114560" y="6240600"/>
            <a:ext cx="809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  <a:ea typeface="Times New Roman"/>
              </a:rPr>
              <a:t>JORNADA SOBRE “CALIDAD Y MEJORA CONTINUA DE LAS ORGANIZACIONES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Gijón, 27 de noviembre de 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33794" t="42001" r="41797" b="56499"/>
          <a:stretch/>
        </p:blipFill>
        <p:spPr>
          <a:xfrm>
            <a:off x="0" y="6453360"/>
            <a:ext cx="2106720" cy="72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15800" y="2781360"/>
            <a:ext cx="9163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>
            <a:alphaModFix amt="80000"/>
          </a:blip>
          <a:srcRect l="2251" t="8107" r="1101" b="7516"/>
          <a:stretch/>
        </p:blipFill>
        <p:spPr>
          <a:xfrm>
            <a:off x="1541520" y="5229360"/>
            <a:ext cx="6710400" cy="15127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4"/>
          <a:srcRect l="16082" t="42621" r="37749" b="56564"/>
          <a:stretch/>
        </p:blipFill>
        <p:spPr>
          <a:xfrm>
            <a:off x="5343480" y="5300640"/>
            <a:ext cx="4444920" cy="44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60520" y="2997360"/>
            <a:ext cx="8856360" cy="1942920"/>
          </a:xfrm>
          <a:prstGeom prst="rect">
            <a:avLst/>
          </a:prstGeom>
          <a:solidFill>
            <a:srgbClr val="9900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JORNADA SOB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“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CALIDAD Y MEJORA CONTINUA DE LAS ORGANIZACIONE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Gijón, 27 de noviembre de 20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mailto:kike@agcalidadfp.com" TargetMode="Externa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60520" y="647640"/>
            <a:ext cx="8604000" cy="16174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SISTEMAS DE GESTIÓN DE CALIDAD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ISO 9000 Y EFQ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99"/>
                </a:solidFill>
                <a:latin typeface="Arial"/>
              </a:rPr>
              <a:t>Rosana Gutiérrez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99"/>
                </a:solidFill>
                <a:latin typeface="Arial"/>
              </a:rPr>
              <a:t>Técnico del Área de la Calidad de la Agencia Vas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89240" y="1996200"/>
            <a:ext cx="1431720" cy="784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704880" y="907920"/>
            <a:ext cx="7993080" cy="1440000"/>
            <a:chOff x="704880" y="907920"/>
            <a:chExt cx="7993080" cy="1440000"/>
          </a:xfrm>
        </p:grpSpPr>
        <p:sp>
          <p:nvSpPr>
            <p:cNvPr id="147" name=""/>
            <p:cNvSpPr/>
            <p:nvPr/>
          </p:nvSpPr>
          <p:spPr>
            <a:xfrm>
              <a:off x="704880" y="907920"/>
              <a:ext cx="3241800" cy="503280"/>
            </a:xfrm>
            <a:prstGeom prst="rect">
              <a:avLst/>
            </a:prstGeom>
            <a:solidFill>
              <a:srgbClr val="660066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marL="954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ALIDAD DE LOS CURS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54680" y="1123920"/>
              <a:ext cx="3743280" cy="1224000"/>
            </a:xfrm>
            <a:prstGeom prst="rect">
              <a:avLst/>
            </a:prstGeom>
            <a:solidFill>
              <a:srgbClr val="0033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marL="95400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umplir con los 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REQUISIT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95400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95400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lcanzar los 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RESULTADOS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previst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29240" y="1052280"/>
              <a:ext cx="1224000" cy="801720"/>
            </a:xfrm>
            <a:prstGeom prst="rightArrow">
              <a:avLst>
                <a:gd name="adj1" fmla="val 50000"/>
                <a:gd name="adj2" fmla="val 38168"/>
              </a:avLst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600" rIns="12600" tIns="12600" bIns="12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0" y="3140640"/>
            <a:ext cx="431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Qué beneficio y/o expectativa puede, razonablemente, esperar un alumno del curso “contratado” en la matrícul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21240" y="2565360"/>
            <a:ext cx="46242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355680" indent="-274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na serie de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COMPETENCIAS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que señala el DC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74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n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ÍTU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74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na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INSERCIÓN LABORAL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(rápida, en su profesión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74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n nivel de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SATISFACCIÓN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on el cur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74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Que cumplamos con los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REQUISITOS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el curso: módulos, horarios, actividades formativas, especialización del profesorado, medios disponibles,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74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tr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1352520" cy="793800"/>
          </a:xfrm>
          <a:prstGeom prst="rightArrow">
            <a:avLst>
              <a:gd name="adj1" fmla="val 50000"/>
              <a:gd name="adj2" fmla="val 42596"/>
            </a:avLst>
          </a:prstGeom>
          <a:solidFill>
            <a:srgbClr val="0066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ORMACIÓN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1D35A-DDC2-4E36-8DA2-8FDA917EAAA8}" type="slidenum">
              <a:t>10</a:t>
            </a:fld>
          </a:p>
        </p:txBody>
      </p:sp>
    </p:spTree>
  </p:cSld>
  <p:transition spd="med">
    <p:strips dir="l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15800" y="803160"/>
            <a:ext cx="1741680" cy="2121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008160" y="2595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UNA REFLEX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08160" y="716040"/>
            <a:ext cx="6148440" cy="24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marL="262080" indent="-262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¿Podemos asegurar que nuestro alumnado RECIBIÓ EL SERVICIO QUE SE LE OFRECIÓ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 aprobó, ¿ADQUIRIÓ LAS COMPETENCIAS previstas? ¿Cómo lo sabemo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endo más modestos,  ¿podemos asegurar que CUMPLIMOS CON LOS DÍAS Y NÚMERO DE CLASES previstos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0520" y="4005360"/>
            <a:ext cx="8496000" cy="19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marL="441360" indent="-360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 el Diseño de módulos se basa en ACTIVIDA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41360" indent="-360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 se dan las CLASES previs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41360" indent="-360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 los módulos cumplen las HORAS previs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41360" indent="-360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 se realizan las ACTIVIDADES previs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41360" indent="-360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 se obtienen los RESULTADOS ACADÉMICOS previ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41360" indent="-360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 el alumnado ASISTE lo previ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41360" indent="-360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286080"/>
            <a:ext cx="9344160" cy="5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marL="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UNA CONCLUS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Debemos CONTROLAR si el curso se desarrolla como habíamos previ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1352520" cy="793800"/>
          </a:xfrm>
          <a:prstGeom prst="rightArrow">
            <a:avLst>
              <a:gd name="adj1" fmla="val 50000"/>
              <a:gd name="adj2" fmla="val 42596"/>
            </a:avLst>
          </a:prstGeom>
          <a:solidFill>
            <a:srgbClr val="0066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ORMACIÓN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FBC30-DBE8-4671-A717-9707143F9213}" type="slidenum">
              <a:t>11</a:t>
            </a:fld>
          </a:p>
        </p:txBody>
      </p:sp>
    </p:spTree>
  </p:cSld>
  <p:transition spd="med">
    <p:strips dir="l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1063800" y="909720"/>
            <a:ext cx="7992360" cy="1439280"/>
            <a:chOff x="1063800" y="909720"/>
            <a:chExt cx="7992360" cy="1439280"/>
          </a:xfrm>
        </p:grpSpPr>
        <p:sp>
          <p:nvSpPr>
            <p:cNvPr id="160" name=""/>
            <p:cNvSpPr/>
            <p:nvPr/>
          </p:nvSpPr>
          <p:spPr>
            <a:xfrm>
              <a:off x="1063800" y="909720"/>
              <a:ext cx="3241440" cy="792000"/>
            </a:xfrm>
            <a:prstGeom prst="rect">
              <a:avLst/>
            </a:prstGeom>
            <a:solidFill>
              <a:srgbClr val="660066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marL="954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ALIDAD DEL PROCESO DE FORMACIÓ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13240" y="1125360"/>
              <a:ext cx="3742920" cy="1223640"/>
            </a:xfrm>
            <a:prstGeom prst="rect">
              <a:avLst/>
            </a:prstGeom>
            <a:solidFill>
              <a:srgbClr val="0033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marL="95400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ESTANDARIZACIÓN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de los proces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95400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95400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RENDIMIENTO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de los proces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087800" y="1053720"/>
              <a:ext cx="1223640" cy="801360"/>
            </a:xfrm>
            <a:prstGeom prst="rightArrow">
              <a:avLst>
                <a:gd name="adj1" fmla="val 50000"/>
                <a:gd name="adj2" fmla="val 38174"/>
              </a:avLst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600" rIns="12600" tIns="12600" bIns="12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15800" y="2349360"/>
            <a:ext cx="91458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262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¿Ocurre en vuestros centro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2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2080" indent="-181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i a un alumno le toca, pongamos por caso, ir a 1º A con el profesor X, es casi seguro que aprueba  y, en cambio, si cae en 1º B, con el profesor Y, es más probable que suspen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2080" indent="-181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2080" indent="-181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 un mismo examen un profesor le pondría una nota y otro profesor otra distint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2080" indent="-181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2080" indent="-181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Un profesor tiene unos criterios para evaluar y otro del mismo módulo y curso otros criterios diferen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2080" indent="-181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2080" indent="-181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Un profesor “enseña” determinadas cosas a los alumnos y otro del mismo módulo otras distinta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1352520" cy="793800"/>
          </a:xfrm>
          <a:prstGeom prst="rightArrow">
            <a:avLst>
              <a:gd name="adj1" fmla="val 50000"/>
              <a:gd name="adj2" fmla="val 42596"/>
            </a:avLst>
          </a:prstGeom>
          <a:solidFill>
            <a:srgbClr val="0066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ORMACIÓN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4FB65-7BB7-4731-94DD-04CAB37B6365}" type="slidenum">
              <a:t>12</a:t>
            </a:fld>
          </a:p>
        </p:txBody>
      </p:sp>
    </p:spTree>
  </p:cSld>
  <p:transition spd="med">
    <p:strips dir="l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52520" y="333360"/>
            <a:ext cx="6427800" cy="4651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VARIACIÓN Y ESTANDARIZACIÓN DE PROCESO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883560" y="1055520"/>
            <a:ext cx="2606040" cy="2635560"/>
            <a:chOff x="6883560" y="1055520"/>
            <a:chExt cx="2606040" cy="2635560"/>
          </a:xfrm>
        </p:grpSpPr>
        <p:sp>
          <p:nvSpPr>
            <p:cNvPr id="167" name=""/>
            <p:cNvSpPr/>
            <p:nvPr/>
          </p:nvSpPr>
          <p:spPr>
            <a:xfrm>
              <a:off x="6883560" y="3391200"/>
              <a:ext cx="2606040" cy="299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Arial"/>
                </a:rPr>
                <a:t>CONTROL  PROCES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7005960" y="1055520"/>
              <a:ext cx="2357640" cy="1985400"/>
              <a:chOff x="7005960" y="1055520"/>
              <a:chExt cx="2357640" cy="198540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7005960" y="1055520"/>
                <a:ext cx="2357640" cy="391320"/>
                <a:chOff x="7005960" y="1055520"/>
                <a:chExt cx="2357640" cy="3913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7519320" y="1055520"/>
                  <a:ext cx="1426320" cy="391320"/>
                </a:xfrm>
                <a:prstGeom prst="rect">
                  <a:avLst/>
                </a:prstGeom>
                <a:solidFill>
                  <a:srgbClr val="ccff66"/>
                </a:solidFill>
                <a:ln w="255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333300"/>
                      </a:solidFill>
                      <a:latin typeface="Arial"/>
                    </a:rPr>
                    <a:t>PR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005960" y="1212480"/>
                  <a:ext cx="513360" cy="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8946000" y="1437840"/>
                  <a:ext cx="417600" cy="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7519320" y="1874880"/>
                <a:ext cx="1426320" cy="1166040"/>
                <a:chOff x="7519320" y="1874880"/>
                <a:chExt cx="1426320" cy="116604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7519320" y="1874880"/>
                  <a:ext cx="1426320" cy="1166040"/>
                </a:xfrm>
                <a:prstGeom prst="rect">
                  <a:avLst/>
                </a:prstGeom>
                <a:solidFill>
                  <a:srgbClr val="ffcc99"/>
                </a:solidFill>
                <a:ln w="255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2600" rIns="126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7568640" y="2004480"/>
                  <a:ext cx="1269360" cy="760680"/>
                  <a:chOff x="7568640" y="2004480"/>
                  <a:chExt cx="1269360" cy="76068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7571160" y="2626920"/>
                    <a:ext cx="1266840" cy="0"/>
                  </a:xfrm>
                  <a:prstGeom prst="line">
                    <a:avLst/>
                  </a:prstGeom>
                  <a:ln w="255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2600" rIns="12600" tIns="-12600" bIns="-12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8564760" y="2077560"/>
                    <a:ext cx="0" cy="687600"/>
                  </a:xfrm>
                  <a:prstGeom prst="line">
                    <a:avLst/>
                  </a:prstGeom>
                  <a:ln w="255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2600" rIns="126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7827120" y="2151000"/>
                    <a:ext cx="0" cy="570240"/>
                  </a:xfrm>
                  <a:prstGeom prst="line">
                    <a:avLst/>
                  </a:prstGeom>
                  <a:ln w="255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2600" rIns="126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7568640" y="2004480"/>
                    <a:ext cx="1257480" cy="624240"/>
                  </a:xfrm>
                  <a:custGeom>
                    <a:avLst/>
                    <a:gdLst/>
                    <a:ahLst/>
                    <a:rect l="l" t="t" r="r" b="b"/>
                    <a:pathLst>
                      <a:path w="924" h="357">
                        <a:moveTo>
                          <a:pt x="0" y="342"/>
                        </a:moveTo>
                        <a:cubicBezTo>
                          <a:pt x="89" y="345"/>
                          <a:pt x="179" y="349"/>
                          <a:pt x="241" y="302"/>
                        </a:cubicBezTo>
                        <a:cubicBezTo>
                          <a:pt x="303" y="255"/>
                          <a:pt x="328" y="110"/>
                          <a:pt x="375" y="61"/>
                        </a:cubicBezTo>
                        <a:cubicBezTo>
                          <a:pt x="422" y="12"/>
                          <a:pt x="477" y="0"/>
                          <a:pt x="522" y="7"/>
                        </a:cubicBezTo>
                        <a:cubicBezTo>
                          <a:pt x="567" y="14"/>
                          <a:pt x="603" y="50"/>
                          <a:pt x="643" y="101"/>
                        </a:cubicBezTo>
                        <a:cubicBezTo>
                          <a:pt x="683" y="152"/>
                          <a:pt x="716" y="273"/>
                          <a:pt x="763" y="315"/>
                        </a:cubicBezTo>
                        <a:cubicBezTo>
                          <a:pt x="810" y="357"/>
                          <a:pt x="893" y="351"/>
                          <a:pt x="924" y="356"/>
                        </a:cubicBezTo>
                      </a:path>
                    </a:pathLst>
                  </a:custGeom>
                  <a:noFill/>
                  <a:ln w="2556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2600" rIns="126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80" name=""/>
          <p:cNvSpPr/>
          <p:nvPr/>
        </p:nvSpPr>
        <p:spPr>
          <a:xfrm>
            <a:off x="6321600" y="1773360"/>
            <a:ext cx="1063440" cy="542880"/>
          </a:xfrm>
          <a:prstGeom prst="wedgeRoundRectCallout">
            <a:avLst>
              <a:gd name="adj1" fmla="val 93282"/>
              <a:gd name="adj2" fmla="val -36550"/>
              <a:gd name="adj3" fmla="val 16667"/>
            </a:avLst>
          </a:prstGeom>
          <a:solidFill>
            <a:srgbClr val="9900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baseline="4000">
                <a:solidFill>
                  <a:srgbClr val="ffffff"/>
                </a:solidFill>
                <a:latin typeface="Arial"/>
              </a:rPr>
              <a:t>LA VARI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152880" y="1484280"/>
            <a:ext cx="2878200" cy="2365560"/>
            <a:chOff x="3152880" y="1484280"/>
            <a:chExt cx="2878200" cy="2365560"/>
          </a:xfrm>
        </p:grpSpPr>
        <p:grpSp>
          <p:nvGrpSpPr>
            <p:cNvPr id="182" name=""/>
            <p:cNvGrpSpPr/>
            <p:nvPr/>
          </p:nvGrpSpPr>
          <p:grpSpPr>
            <a:xfrm>
              <a:off x="3152880" y="1484280"/>
              <a:ext cx="2878200" cy="2365560"/>
              <a:chOff x="3152880" y="1484280"/>
              <a:chExt cx="2878200" cy="2365560"/>
            </a:xfrm>
          </p:grpSpPr>
          <p:sp>
            <p:nvSpPr>
              <p:cNvPr id="183" name=""/>
              <p:cNvSpPr/>
              <p:nvPr/>
            </p:nvSpPr>
            <p:spPr>
              <a:xfrm>
                <a:off x="3822840" y="1984320"/>
                <a:ext cx="1469160" cy="1392120"/>
              </a:xfrm>
              <a:prstGeom prst="donut">
                <a:avLst>
                  <a:gd name="adj" fmla="val 10458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221360" y="2360880"/>
                <a:ext cx="698040" cy="688320"/>
              </a:xfrm>
              <a:prstGeom prst="donut">
                <a:avLst>
                  <a:gd name="adj" fmla="val 17962"/>
                </a:avLst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497760" y="1657080"/>
                <a:ext cx="2118600" cy="2024280"/>
              </a:xfrm>
              <a:prstGeom prst="donut">
                <a:avLst>
                  <a:gd name="adj" fmla="val 6819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570920" y="1484280"/>
                <a:ext cx="0" cy="2365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152880" y="2724840"/>
                <a:ext cx="28782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475600" y="2715840"/>
              <a:ext cx="510120" cy="581040"/>
              <a:chOff x="5475600" y="2715840"/>
              <a:chExt cx="510120" cy="581040"/>
            </a:xfrm>
          </p:grpSpPr>
          <p:sp>
            <p:nvSpPr>
              <p:cNvPr id="189" name=""/>
              <p:cNvSpPr/>
              <p:nvPr/>
            </p:nvSpPr>
            <p:spPr>
              <a:xfrm>
                <a:off x="5477760" y="2980080"/>
                <a:ext cx="399600" cy="31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2166600">
                <a:off x="5529960" y="2803320"/>
                <a:ext cx="400680" cy="316800"/>
              </a:xfrm>
              <a:prstGeom prst="irregularSeal2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4611600" y="1778040"/>
              <a:ext cx="784800" cy="544680"/>
              <a:chOff x="4611600" y="1778040"/>
              <a:chExt cx="784800" cy="544680"/>
            </a:xfrm>
          </p:grpSpPr>
          <p:sp>
            <p:nvSpPr>
              <p:cNvPr id="192" name=""/>
              <p:cNvSpPr/>
              <p:nvPr/>
            </p:nvSpPr>
            <p:spPr>
              <a:xfrm rot="2473800">
                <a:off x="4665960" y="1870920"/>
                <a:ext cx="401400" cy="316800"/>
              </a:xfrm>
              <a:prstGeom prst="irregularSeal2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996440" y="2005920"/>
                <a:ext cx="399960" cy="31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4369680" y="2441880"/>
              <a:ext cx="572760" cy="600120"/>
              <a:chOff x="4369680" y="2441880"/>
              <a:chExt cx="572760" cy="600120"/>
            </a:xfrm>
          </p:grpSpPr>
          <p:sp>
            <p:nvSpPr>
              <p:cNvPr id="195" name=""/>
              <p:cNvSpPr/>
              <p:nvPr/>
            </p:nvSpPr>
            <p:spPr>
              <a:xfrm rot="1186800">
                <a:off x="4411440" y="2500200"/>
                <a:ext cx="400320" cy="317160"/>
              </a:xfrm>
              <a:prstGeom prst="irregularSeal2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43200" y="2724840"/>
                <a:ext cx="39924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3719160" y="2742840"/>
              <a:ext cx="784080" cy="512640"/>
              <a:chOff x="3719160" y="2742840"/>
              <a:chExt cx="784080" cy="512640"/>
            </a:xfrm>
          </p:grpSpPr>
          <p:sp>
            <p:nvSpPr>
              <p:cNvPr id="198" name=""/>
              <p:cNvSpPr/>
              <p:nvPr/>
            </p:nvSpPr>
            <p:spPr>
              <a:xfrm rot="2034000">
                <a:off x="3773160" y="2827080"/>
                <a:ext cx="399600" cy="317160"/>
              </a:xfrm>
              <a:prstGeom prst="irregularSeal2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102560" y="2938320"/>
                <a:ext cx="40068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3223800" y="1988640"/>
              <a:ext cx="605520" cy="504000"/>
              <a:chOff x="3223800" y="1988640"/>
              <a:chExt cx="605520" cy="504000"/>
            </a:xfrm>
          </p:grpSpPr>
          <p:sp>
            <p:nvSpPr>
              <p:cNvPr id="201" name=""/>
              <p:cNvSpPr/>
              <p:nvPr/>
            </p:nvSpPr>
            <p:spPr>
              <a:xfrm rot="2464800">
                <a:off x="3372480" y="2081160"/>
                <a:ext cx="401760" cy="318240"/>
              </a:xfrm>
              <a:prstGeom prst="irregularSeal2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223800" y="1994760"/>
                <a:ext cx="400320" cy="31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0" y="1557360"/>
            <a:ext cx="3024000" cy="2265480"/>
            <a:chOff x="0" y="1557360"/>
            <a:chExt cx="3024000" cy="2265480"/>
          </a:xfrm>
        </p:grpSpPr>
        <p:grpSp>
          <p:nvGrpSpPr>
            <p:cNvPr id="204" name=""/>
            <p:cNvGrpSpPr/>
            <p:nvPr/>
          </p:nvGrpSpPr>
          <p:grpSpPr>
            <a:xfrm>
              <a:off x="0" y="1557360"/>
              <a:ext cx="2746800" cy="2265480"/>
              <a:chOff x="0" y="1557360"/>
              <a:chExt cx="2746800" cy="2265480"/>
            </a:xfrm>
          </p:grpSpPr>
          <p:sp>
            <p:nvSpPr>
              <p:cNvPr id="205" name=""/>
              <p:cNvSpPr/>
              <p:nvPr/>
            </p:nvSpPr>
            <p:spPr>
              <a:xfrm>
                <a:off x="651600" y="2013840"/>
                <a:ext cx="1375560" cy="1348560"/>
              </a:xfrm>
              <a:prstGeom prst="donut">
                <a:avLst>
                  <a:gd name="adj" fmla="val 10458"/>
                </a:avLst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040040" y="2367000"/>
                <a:ext cx="653040" cy="667800"/>
              </a:xfrm>
              <a:prstGeom prst="donut">
                <a:avLst>
                  <a:gd name="adj" fmla="val 17962"/>
                </a:avLst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48840" y="1701000"/>
                <a:ext cx="1982520" cy="1957680"/>
              </a:xfrm>
              <a:prstGeom prst="donut">
                <a:avLst>
                  <a:gd name="adj" fmla="val 6819"/>
                </a:avLst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366560" y="1557360"/>
                <a:ext cx="0" cy="22654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730960"/>
                <a:ext cx="27468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1327680" y="1601640"/>
              <a:ext cx="1696320" cy="1128600"/>
              <a:chOff x="1327680" y="1601640"/>
              <a:chExt cx="1696320" cy="1128600"/>
            </a:xfrm>
          </p:grpSpPr>
          <p:grpSp>
            <p:nvGrpSpPr>
              <p:cNvPr id="211" name=""/>
              <p:cNvGrpSpPr/>
              <p:nvPr/>
            </p:nvGrpSpPr>
            <p:grpSpPr>
              <a:xfrm>
                <a:off x="1667880" y="1601640"/>
                <a:ext cx="697320" cy="486360"/>
                <a:chOff x="1667880" y="1601640"/>
                <a:chExt cx="697320" cy="48636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1990440" y="1601640"/>
                  <a:ext cx="374760" cy="30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2034000">
                  <a:off x="1721880" y="1701000"/>
                  <a:ext cx="374760" cy="308520"/>
                </a:xfrm>
                <a:prstGeom prst="irregularSeal2">
                  <a:avLst/>
                </a:prstGeom>
                <a:solidFill>
                  <a:srgbClr val="66ff33"/>
                </a:solidFill>
                <a:ln w="1260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1973160" y="1807560"/>
                <a:ext cx="736920" cy="464760"/>
                <a:chOff x="1973160" y="1807560"/>
                <a:chExt cx="736920" cy="4647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2334600" y="1832760"/>
                  <a:ext cx="375480" cy="30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ffffff"/>
                      </a:solidFill>
                      <a:latin typeface="Arial"/>
                    </a:rPr>
                    <a:t>4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rot="2034000">
                  <a:off x="2027160" y="1885680"/>
                  <a:ext cx="374400" cy="308520"/>
                </a:xfrm>
                <a:prstGeom prst="irregularSeal2">
                  <a:avLst/>
                </a:prstGeom>
                <a:solidFill>
                  <a:srgbClr val="66ff33"/>
                </a:solidFill>
                <a:ln w="1260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2104920" y="2265120"/>
                <a:ext cx="919080" cy="465120"/>
                <a:chOff x="2104920" y="2265120"/>
                <a:chExt cx="919080" cy="4651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2630880" y="2374920"/>
                  <a:ext cx="393120" cy="30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rot="2034000">
                  <a:off x="2158920" y="2343240"/>
                  <a:ext cx="374760" cy="308520"/>
                </a:xfrm>
                <a:prstGeom prst="irregularSeal2">
                  <a:avLst/>
                </a:prstGeom>
                <a:solidFill>
                  <a:srgbClr val="66ff33"/>
                </a:solidFill>
                <a:ln w="1260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1566000" y="2081880"/>
                <a:ext cx="624600" cy="506880"/>
                <a:chOff x="1566000" y="2081880"/>
                <a:chExt cx="624600" cy="506880"/>
              </a:xfrm>
            </p:grpSpPr>
            <p:sp>
              <p:nvSpPr>
                <p:cNvPr id="221" name=""/>
                <p:cNvSpPr/>
                <p:nvPr/>
              </p:nvSpPr>
              <p:spPr>
                <a:xfrm rot="2034000">
                  <a:off x="1761120" y="2160000"/>
                  <a:ext cx="374760" cy="309600"/>
                </a:xfrm>
                <a:prstGeom prst="irregularSeal2">
                  <a:avLst/>
                </a:prstGeom>
                <a:solidFill>
                  <a:srgbClr val="66ff33"/>
                </a:solidFill>
                <a:ln w="1260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566000" y="2280240"/>
                  <a:ext cx="374760" cy="30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1327680" y="1818720"/>
                <a:ext cx="650520" cy="466200"/>
                <a:chOff x="1327680" y="1818720"/>
                <a:chExt cx="650520" cy="466200"/>
              </a:xfrm>
            </p:grpSpPr>
            <p:sp>
              <p:nvSpPr>
                <p:cNvPr id="224" name=""/>
                <p:cNvSpPr/>
                <p:nvPr/>
              </p:nvSpPr>
              <p:spPr>
                <a:xfrm rot="2034000">
                  <a:off x="1549080" y="1896480"/>
                  <a:ext cx="374400" cy="309960"/>
                </a:xfrm>
                <a:prstGeom prst="irregularSeal2">
                  <a:avLst/>
                </a:prstGeom>
                <a:solidFill>
                  <a:srgbClr val="66ff33"/>
                </a:solidFill>
                <a:ln w="1260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327680" y="1896840"/>
                  <a:ext cx="374400" cy="30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6" name=""/>
          <p:cNvSpPr/>
          <p:nvPr/>
        </p:nvSpPr>
        <p:spPr>
          <a:xfrm>
            <a:off x="704880" y="3789360"/>
            <a:ext cx="446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MEJORAR LOS PROCESOS REDUCIENDO SU VARIABILIDA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00160" y="981000"/>
            <a:ext cx="540072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Arial"/>
              </a:rPr>
              <a:t>De la inspección del producto final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Arial"/>
              </a:rPr>
              <a:t>al control del proces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57960" y="4508640"/>
            <a:ext cx="3673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usas ESPECIALES 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usas COMUN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e vari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008160" y="4486320"/>
            <a:ext cx="2376720" cy="1606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88880" y="4437000"/>
            <a:ext cx="2376720" cy="15066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0" y="0"/>
            <a:ext cx="1352520" cy="793800"/>
          </a:xfrm>
          <a:prstGeom prst="rightArrow">
            <a:avLst>
              <a:gd name="adj1" fmla="val 50000"/>
              <a:gd name="adj2" fmla="val 42596"/>
            </a:avLst>
          </a:prstGeom>
          <a:solidFill>
            <a:srgbClr val="0066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ORMACIÓN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D7CD5-B2F9-4FB4-ABCB-82AA4CDF7BD9}" type="slidenum">
              <a:t>13</a:t>
            </a:fld>
          </a:p>
        </p:txBody>
      </p:sp>
    </p:spTree>
  </p:cSld>
  <p:transition spd="med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560520" y="333360"/>
            <a:ext cx="4176720" cy="3384720"/>
            <a:chOff x="560520" y="333360"/>
            <a:chExt cx="4176720" cy="3384720"/>
          </a:xfrm>
        </p:grpSpPr>
        <p:sp>
          <p:nvSpPr>
            <p:cNvPr id="233" name=""/>
            <p:cNvSpPr/>
            <p:nvPr/>
          </p:nvSpPr>
          <p:spPr>
            <a:xfrm>
              <a:off x="560520" y="333360"/>
              <a:ext cx="4176720" cy="3384720"/>
            </a:xfrm>
            <a:custGeom>
              <a:avLst/>
              <a:gdLst>
                <a:gd name="textAreaLeft" fmla="*/ 1029960 w 4176720"/>
                <a:gd name="textAreaRight" fmla="*/ 3146760 w 4176720"/>
                <a:gd name="textAreaTop" fmla="*/ 834480 h 3384720"/>
                <a:gd name="textAreaBottom" fmla="*/ 2550240 h 338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162" y="21600"/>
                  </a:lnTo>
                  <a:lnTo>
                    <a:pt x="6438" y="2160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600" rIns="126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00"/>
                  </a:solidFill>
                  <a:latin typeface="Arial"/>
                </a:rPr>
                <a:t>CRITERIOS DE EVALUACIÓ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00"/>
                  </a:solidFill>
                  <a:latin typeface="Arial"/>
                </a:rPr>
                <a:t>PRUEBAS EVALUATIV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00"/>
                  </a:solidFill>
                  <a:latin typeface="Arial"/>
                </a:rPr>
                <a:t>SISTEMA DE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00"/>
                  </a:solidFill>
                  <a:latin typeface="Arial"/>
                </a:rPr>
                <a:t>CALIFICACIÓ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00"/>
                  </a:solidFill>
                  <a:latin typeface="Arial"/>
                </a:rPr>
                <a:t>CRITERIOS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00"/>
                  </a:solidFill>
                  <a:latin typeface="Arial"/>
                </a:rPr>
                <a:t>DE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00"/>
                  </a:solidFill>
                  <a:latin typeface="Arial"/>
                </a:rPr>
                <a:t>CORRECCIÓ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47800" y="1052640"/>
              <a:ext cx="360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36520" y="1917720"/>
              <a:ext cx="3024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425600" y="2781360"/>
              <a:ext cx="24480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1641600" y="3860640"/>
            <a:ext cx="2014560" cy="46512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LIB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40160" y="366840"/>
            <a:ext cx="4176720" cy="3384360"/>
          </a:xfrm>
          <a:custGeom>
            <a:avLst/>
            <a:gdLst>
              <a:gd name="textAreaLeft" fmla="*/ 1029960 w 4176720"/>
              <a:gd name="textAreaRight" fmla="*/ 3146760 w 4176720"/>
              <a:gd name="textAreaTop" fmla="*/ 834480 h 3384360"/>
              <a:gd name="textAreaBottom" fmla="*/ 2549880 h 33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162" y="21600"/>
                </a:lnTo>
                <a:lnTo>
                  <a:pt x="6438" y="216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" rIns="12600" tIns="12600" bIns="12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00"/>
                </a:solidFill>
                <a:latin typeface="Arial"/>
              </a:rPr>
              <a:t>PROGRAMACIÓN BASAD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00"/>
                </a:solidFill>
                <a:latin typeface="Arial"/>
              </a:rPr>
              <a:t>EN CONTENID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00"/>
                </a:solidFill>
                <a:latin typeface="Arial"/>
              </a:rPr>
              <a:t>BLOQUES TEMÁT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00"/>
                </a:solidFill>
                <a:latin typeface="Arial"/>
              </a:rPr>
              <a:t>PROGRAMACIÓN BAS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333300"/>
                </a:solidFill>
                <a:latin typeface="Arial"/>
              </a:rPr>
              <a:t>EN ACTIVIDAD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00"/>
                </a:solidFill>
                <a:latin typeface="Arial"/>
              </a:rPr>
              <a:t>DE AUL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00"/>
                </a:solidFill>
                <a:latin typeface="Arial"/>
              </a:rPr>
              <a:t>UNIDAD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00"/>
                </a:solidFill>
                <a:latin typeface="Arial"/>
              </a:rPr>
              <a:t>DIDÁCT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16520" y="1951200"/>
            <a:ext cx="3024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-12600" bIns="-12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05600" y="3860640"/>
            <a:ext cx="2449440" cy="46512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OGRAM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1800" y="727200"/>
            <a:ext cx="1135080" cy="3024000"/>
          </a:xfrm>
          <a:prstGeom prst="line">
            <a:avLst/>
          </a:prstGeom>
          <a:ln w="76320">
            <a:solidFill>
              <a:srgbClr val="ffff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25960" y="727200"/>
            <a:ext cx="1135080" cy="3024000"/>
          </a:xfrm>
          <a:prstGeom prst="line">
            <a:avLst/>
          </a:prstGeom>
          <a:ln w="76320">
            <a:solidFill>
              <a:srgbClr val="ffff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4520" y="4797360"/>
            <a:ext cx="244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Idea clave: </a:t>
            </a:r>
            <a:br>
              <a:rPr sz="2000"/>
            </a:b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STANDARIZAR </a:t>
            </a:r>
            <a:br>
              <a:rPr sz="2000"/>
            </a:b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OS PROCE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720880" y="4365720"/>
            <a:ext cx="62643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187200" indent="-18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Formación Inicial, Continua, Ocupacional</a:t>
            </a:r>
            <a:br>
              <a:rPr sz="1600"/>
            </a:b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Formación  del profesorado</a:t>
            </a:r>
            <a:br>
              <a:rPr sz="1600"/>
            </a:b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Gestión de personas (sustituciones, bajas, horarios, …)</a:t>
            </a:r>
            <a:br>
              <a:rPr sz="1600"/>
            </a:b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Gestión de recursos y aulas</a:t>
            </a:r>
            <a:br>
              <a:rPr sz="1600"/>
            </a:b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Comunicación interna </a:t>
            </a:r>
            <a:br>
              <a:rPr sz="1600"/>
            </a:b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Planificación </a:t>
            </a:r>
            <a:br>
              <a:rPr sz="1600"/>
            </a:b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Innovación y mejora,  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513240" y="2924280"/>
            <a:ext cx="647640" cy="57456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" rIns="12600" tIns="12600" bIns="12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193240" y="2924280"/>
            <a:ext cx="647640" cy="57456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" rIns="12600" tIns="12600" bIns="12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0"/>
            <a:ext cx="1352520" cy="793800"/>
          </a:xfrm>
          <a:prstGeom prst="rightArrow">
            <a:avLst>
              <a:gd name="adj1" fmla="val 50000"/>
              <a:gd name="adj2" fmla="val 42596"/>
            </a:avLst>
          </a:prstGeom>
          <a:solidFill>
            <a:srgbClr val="0066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ORMACIÓN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B4C11-E005-4F8F-95F6-08643AD14F3B}" type="slidenum">
              <a:t>14</a:t>
            </a:fld>
          </a:p>
        </p:txBody>
      </p:sp>
    </p:spTree>
  </p:cSld>
  <p:transition spd="med"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073240" y="260280"/>
            <a:ext cx="2232000" cy="647640"/>
          </a:xfrm>
          <a:prstGeom prst="rect">
            <a:avLst/>
          </a:prstGeom>
          <a:solidFill>
            <a:srgbClr val="66006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ESULTADO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 RENDI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4880" y="1118520"/>
            <a:ext cx="316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Cómo trabajamo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on DA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4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or IMPRES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065240" y="2232000"/>
            <a:ext cx="8137440" cy="2365200"/>
            <a:chOff x="1065240" y="2232000"/>
            <a:chExt cx="8137440" cy="2365200"/>
          </a:xfrm>
        </p:grpSpPr>
        <p:pic>
          <p:nvPicPr>
            <p:cNvPr id="251" name="" descr=""/>
            <p:cNvPicPr/>
            <p:nvPr/>
          </p:nvPicPr>
          <p:blipFill>
            <a:blip r:embed="rId1"/>
            <a:stretch/>
          </p:blipFill>
          <p:spPr>
            <a:xfrm>
              <a:off x="1065240" y="2349360"/>
              <a:ext cx="237636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3873600" y="2232000"/>
              <a:ext cx="5329080" cy="23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</a:rPr>
                <a:t>¿Cómo deberíamos trabajar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"/>
                </a:rPr>
                <a:t>Con </a:t>
              </a:r>
              <a:r>
                <a:rPr b="1" lang="es-ES_tradnl" sz="2000" spc="-1" strike="noStrike">
                  <a:solidFill>
                    <a:srgbClr val="ff3300"/>
                  </a:solidFill>
                  <a:latin typeface="Arial"/>
                </a:rPr>
                <a:t>Indicadores</a:t>
              </a:r>
              <a:r>
                <a:rPr b="1" lang="es-ES_tradnl" sz="20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75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"/>
                </a:rPr>
                <a:t>Para ver en qué situación estam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"/>
                </a:rPr>
                <a:t>Con </a:t>
              </a:r>
              <a:r>
                <a:rPr b="1" lang="es-ES_tradnl" sz="2000" spc="-1" strike="noStrike">
                  <a:solidFill>
                    <a:srgbClr val="ff3300"/>
                  </a:solidFill>
                  <a:latin typeface="Arial"/>
                </a:rPr>
                <a:t>Objetivos</a:t>
              </a:r>
              <a:r>
                <a:rPr b="1" lang="es-ES_tradnl" sz="2000" spc="-1" strike="noStrike">
                  <a:solidFill>
                    <a:srgbClr val="ffffff"/>
                  </a:solidFill>
                  <a:latin typeface="Arial"/>
                </a:rPr>
                <a:t> -resultados esperados-: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75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"/>
                </a:rPr>
                <a:t>Para reaccionar si no se alcanza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75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"/>
                </a:rPr>
                <a:t>Para ponernos nuevos retos si se logra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448160" y="115920"/>
            <a:ext cx="4680000" cy="8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No basta estandarizar, hay que mejorar y para ello controlar los resultados y el rendimiento de cursos y proces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1352520" cy="793800"/>
          </a:xfrm>
          <a:prstGeom prst="rightArrow">
            <a:avLst>
              <a:gd name="adj1" fmla="val 50000"/>
              <a:gd name="adj2" fmla="val 42596"/>
            </a:avLst>
          </a:prstGeom>
          <a:solidFill>
            <a:srgbClr val="0066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ORMACIÓN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72880" y="4681440"/>
            <a:ext cx="9001440" cy="14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étodo sugerid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7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Característica de calidad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(El curso o el proceso serían de calidad si …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7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Indicador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(La característica se mediría por …- unidad del indicador-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7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Objetivo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(El número que  queremos lograr en ese indicad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54E43-8C8B-4E87-AF73-71B7CA08BC7D}" type="slidenum">
              <a:t>15</a:t>
            </a:fld>
          </a:p>
        </p:txBody>
      </p:sp>
    </p:spTree>
  </p:cSld>
  <p:transition spd="med">
    <p:strips dir="l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0" y="333360"/>
            <a:ext cx="9201240" cy="1871640"/>
            <a:chOff x="0" y="333360"/>
            <a:chExt cx="9201240" cy="1871640"/>
          </a:xfrm>
        </p:grpSpPr>
        <p:grpSp>
          <p:nvGrpSpPr>
            <p:cNvPr id="257" name=""/>
            <p:cNvGrpSpPr/>
            <p:nvPr/>
          </p:nvGrpSpPr>
          <p:grpSpPr>
            <a:xfrm>
              <a:off x="4160880" y="333360"/>
              <a:ext cx="5040360" cy="1871640"/>
              <a:chOff x="4160880" y="333360"/>
              <a:chExt cx="5040360" cy="187164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4953240" y="333360"/>
                <a:ext cx="2448000" cy="1513080"/>
                <a:chOff x="4953240" y="333360"/>
                <a:chExt cx="2448000" cy="15130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4953240" y="333360"/>
                  <a:ext cx="2448000" cy="15130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2600" rIns="126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024880" y="838080"/>
                  <a:ext cx="647640" cy="358920"/>
                </a:xfrm>
                <a:prstGeom prst="rect">
                  <a:avLst/>
                </a:prstGeom>
                <a:solidFill>
                  <a:srgbClr val="ffcc00"/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2600" rIns="126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816880" y="549360"/>
                  <a:ext cx="647640" cy="358560"/>
                </a:xfrm>
                <a:prstGeom prst="rect">
                  <a:avLst/>
                </a:prstGeom>
                <a:solidFill>
                  <a:srgbClr val="ffcc00"/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2600" rIns="126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816880" y="1125720"/>
                  <a:ext cx="647640" cy="358560"/>
                </a:xfrm>
                <a:prstGeom prst="rect">
                  <a:avLst/>
                </a:prstGeom>
                <a:solidFill>
                  <a:srgbClr val="ffcc00"/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2600" rIns="126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608880" y="838080"/>
                  <a:ext cx="648000" cy="358920"/>
                </a:xfrm>
                <a:prstGeom prst="rect">
                  <a:avLst/>
                </a:prstGeom>
                <a:solidFill>
                  <a:srgbClr val="ffcc00"/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2600" rIns="126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V="1">
                  <a:off x="5600880" y="693720"/>
                  <a:ext cx="216000" cy="216000"/>
                </a:xfrm>
                <a:prstGeom prst="line">
                  <a:avLst/>
                </a:prstGeom>
                <a:ln w="3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177240" y="838080"/>
                  <a:ext cx="0" cy="287640"/>
                </a:xfrm>
                <a:prstGeom prst="line">
                  <a:avLst/>
                </a:prstGeom>
                <a:ln w="3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V="1">
                  <a:off x="6464520" y="1054080"/>
                  <a:ext cx="216000" cy="216000"/>
                </a:xfrm>
                <a:prstGeom prst="line">
                  <a:avLst/>
                </a:prstGeom>
                <a:ln w="3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456520" y="1197000"/>
                  <a:ext cx="431640" cy="144360"/>
                </a:xfrm>
                <a:prstGeom prst="line">
                  <a:avLst/>
                </a:prstGeom>
                <a:ln w="3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8" name=""/>
              <p:cNvSpPr/>
              <p:nvPr/>
            </p:nvSpPr>
            <p:spPr>
              <a:xfrm>
                <a:off x="7401240" y="1054080"/>
                <a:ext cx="792000" cy="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-12600" bIns="-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160880" y="1125720"/>
                <a:ext cx="792360" cy="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-12600" bIns="-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193240" y="549360"/>
                <a:ext cx="1008000" cy="934920"/>
              </a:xfrm>
              <a:prstGeom prst="ellipse">
                <a:avLst/>
              </a:prstGeom>
              <a:solidFill>
                <a:srgbClr val="ffff00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2600" rIns="126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36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R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753240" y="1413000"/>
                <a:ext cx="505080" cy="36036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185240" y="1557360"/>
                <a:ext cx="720720" cy="647640"/>
              </a:xfrm>
              <a:prstGeom prst="ellipse">
                <a:avLst/>
              </a:prstGeom>
              <a:solidFill>
                <a:srgbClr val="660066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2600" rIns="126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3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r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0" y="1125360"/>
              <a:ext cx="4305240" cy="63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</a:rPr>
                <a:t>Los indicadores se pueden referir a los </a:t>
              </a:r>
              <a:r>
                <a:rPr b="0" i="1" lang="es-ES_tradnl" sz="2000" spc="-1" strike="noStrike">
                  <a:solidFill>
                    <a:srgbClr val="ffffff"/>
                  </a:solidFill>
                  <a:latin typeface="Arial"/>
                </a:rPr>
                <a:t>resultados</a:t>
              </a: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</a:rPr>
                <a:t> o al </a:t>
              </a:r>
              <a:r>
                <a:rPr b="0" i="1" lang="es-ES_tradnl" sz="2000" spc="-1" strike="noStrike">
                  <a:solidFill>
                    <a:srgbClr val="ffffff"/>
                  </a:solidFill>
                  <a:latin typeface="Arial"/>
                </a:rPr>
                <a:t>rendimiento</a:t>
              </a: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7240" y="2205000"/>
            <a:ext cx="9657360" cy="1588680"/>
            <a:chOff x="57240" y="2205000"/>
            <a:chExt cx="9657360" cy="1588680"/>
          </a:xfrm>
        </p:grpSpPr>
        <p:sp>
          <p:nvSpPr>
            <p:cNvPr id="275" name=""/>
            <p:cNvSpPr/>
            <p:nvPr/>
          </p:nvSpPr>
          <p:spPr>
            <a:xfrm>
              <a:off x="993960" y="2997000"/>
              <a:ext cx="220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"/>
                </a:rPr>
                <a:t>RESULTAD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54840" y="2560320"/>
              <a:ext cx="4248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2080" indent="-2620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… </a:t>
              </a: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son conformes con los objetivos planificados …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065400" y="2709720"/>
              <a:ext cx="2025720" cy="337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PLANIFICAD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240" y="2711160"/>
              <a:ext cx="1008000" cy="935280"/>
            </a:xfrm>
            <a:prstGeom prst="ellipse">
              <a:avLst/>
            </a:prstGeom>
            <a:solidFill>
              <a:srgbClr val="ffff00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600" rIns="126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3399"/>
                  </a:solidFill>
                  <a:latin typeface="Arial"/>
                  <a:ea typeface="Arial"/>
                </a:rPr>
                <a:t>R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083200" y="3213000"/>
              <a:ext cx="439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 … </a:t>
              </a: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la percepción del receptor del servicio es    buena …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65400" y="3357360"/>
              <a:ext cx="2025720" cy="337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SATISFACCIÓ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084280" y="2205000"/>
              <a:ext cx="4630320" cy="2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600" rIns="12600" tIns="12600" bIns="12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00"/>
                  </a:solidFill>
                  <a:latin typeface="Arial"/>
                </a:rPr>
                <a:t>Un proceso es de calidad en sus  </a:t>
              </a:r>
              <a:r>
                <a:rPr b="1" lang="es-ES_tradnl" sz="1600" spc="-1" strike="noStrike">
                  <a:solidFill>
                    <a:srgbClr val="ffff00"/>
                  </a:solidFill>
                  <a:latin typeface="Arial"/>
                </a:rPr>
                <a:t>resultados</a:t>
              </a:r>
              <a:r>
                <a:rPr b="0" lang="es-ES_tradnl" sz="1600" spc="-1" strike="noStrike">
                  <a:solidFill>
                    <a:srgbClr val="ffff00"/>
                  </a:solidFill>
                  <a:latin typeface="Arial"/>
                </a:rPr>
                <a:t> si …</a:t>
              </a: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00160" y="4221000"/>
            <a:ext cx="9573840" cy="1832040"/>
            <a:chOff x="200160" y="4221000"/>
            <a:chExt cx="9573840" cy="1832040"/>
          </a:xfrm>
        </p:grpSpPr>
        <p:sp>
          <p:nvSpPr>
            <p:cNvPr id="283" name=""/>
            <p:cNvSpPr/>
            <p:nvPr/>
          </p:nvSpPr>
          <p:spPr>
            <a:xfrm>
              <a:off x="5170320" y="5229000"/>
              <a:ext cx="4462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2080" indent="-2620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… </a:t>
              </a: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consume menos recursos, no hay errores, se cumplen plazos, no hay reclamaciones,  las  actividades obtienen buen resultado…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08160" y="5229000"/>
              <a:ext cx="2017800" cy="337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FICIENC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170320" y="4579560"/>
              <a:ext cx="3770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2080" indent="-2620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… </a:t>
              </a: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se actúa de manera uniforme, con poca variación en su desarrollo …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49240" y="4868640"/>
              <a:ext cx="23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"/>
                </a:rPr>
                <a:t>RENDIMIENT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0160" y="4652640"/>
              <a:ext cx="720720" cy="647640"/>
            </a:xfrm>
            <a:prstGeom prst="ellipse">
              <a:avLst/>
            </a:prstGeom>
            <a:solidFill>
              <a:srgbClr val="660066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600" rIns="126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r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08160" y="4593960"/>
              <a:ext cx="2059200" cy="337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VARIACIÓ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111640" y="4221000"/>
              <a:ext cx="4662360" cy="2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600" rIns="12600" tIns="12600" bIns="12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00"/>
                  </a:solidFill>
                  <a:latin typeface="Arial"/>
                </a:rPr>
                <a:t>Un proceso es de calidad en su  </a:t>
              </a:r>
              <a:r>
                <a:rPr b="1" lang="es-ES_tradnl" sz="1600" spc="-1" strike="noStrike">
                  <a:solidFill>
                    <a:srgbClr val="ffff00"/>
                  </a:solidFill>
                  <a:latin typeface="Arial"/>
                </a:rPr>
                <a:t>rendimiento </a:t>
              </a:r>
              <a:r>
                <a:rPr b="0" lang="es-ES_tradnl" sz="1600" spc="-1" strike="noStrike">
                  <a:solidFill>
                    <a:srgbClr val="ffff00"/>
                  </a:solidFill>
                  <a:latin typeface="Arial"/>
                </a:rPr>
                <a:t>si</a:t>
              </a:r>
              <a:r>
                <a:rPr b="1" lang="es-ES_tradnl" sz="16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s-ES_tradnl" sz="1600" spc="-1" strike="noStrike">
                  <a:solidFill>
                    <a:srgbClr val="ffff00"/>
                  </a:solidFill>
                  <a:latin typeface="Arial"/>
                </a:rPr>
                <a:t>…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0" y="0"/>
            <a:ext cx="1352520" cy="793800"/>
          </a:xfrm>
          <a:prstGeom prst="rightArrow">
            <a:avLst>
              <a:gd name="adj1" fmla="val 50000"/>
              <a:gd name="adj2" fmla="val 42596"/>
            </a:avLst>
          </a:prstGeom>
          <a:solidFill>
            <a:srgbClr val="0066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ORMACIÓN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073240" y="260280"/>
            <a:ext cx="2232000" cy="647640"/>
          </a:xfrm>
          <a:prstGeom prst="rect">
            <a:avLst/>
          </a:prstGeom>
          <a:solidFill>
            <a:srgbClr val="66006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ESULTADO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 RENDI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89BB8-58A9-4199-9BEE-688099453C7B}" type="slidenum">
              <a:t>16</a:t>
            </a:fld>
          </a:p>
        </p:txBody>
      </p:sp>
    </p:spTree>
  </p:cSld>
  <p:transition spd="med">
    <p:strips dir="l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289240" y="2924280"/>
            <a:ext cx="6767280" cy="2881080"/>
          </a:xfrm>
          <a:prstGeom prst="rightArrow">
            <a:avLst>
              <a:gd name="adj1" fmla="val 50000"/>
              <a:gd name="adj2" fmla="val 58722"/>
            </a:avLst>
          </a:prstGeom>
          <a:solidFill>
            <a:srgbClr val="9900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CENTROS</a:t>
            </a: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EC363-1903-4CCF-9025-7D426FD19EFF}" type="slidenum">
              <a:t>17</a:t>
            </a:fld>
          </a:p>
        </p:txBody>
      </p:sp>
    </p:spTree>
  </p:cSld>
  <p:transition spd="med"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5457960" y="189000"/>
            <a:ext cx="4032000" cy="42300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ALIDAD EN CENT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76160" y="1785600"/>
            <a:ext cx="39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3880" indent="-3538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Un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stándar de Calidad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de servicios y procesos del centr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uditar y/o evaluar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contra ese estánda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-46080" y="2071080"/>
            <a:ext cx="1079640" cy="44136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U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4778280" y="1998000"/>
            <a:ext cx="1079640" cy="44136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ÓM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73600" y="1544760"/>
            <a:ext cx="374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3880" indent="-3538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SO 9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FQ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Otos estándares (IiP, PRL, EKOSCAN, 5S, ACC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odelos pedagógicos (PBL, POI, Ikasgunes,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40200" y="4056120"/>
            <a:ext cx="57290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marL="353880" indent="-3538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rabajar con estándares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ontrastados y aceptad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universalm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Interpretándol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desde nuestra reali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rear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stándares propi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no rebaja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0"/>
            <a:ext cx="1352520" cy="765000"/>
          </a:xfrm>
          <a:prstGeom prst="rightArrow">
            <a:avLst>
              <a:gd name="adj1" fmla="val 50000"/>
              <a:gd name="adj2" fmla="val 44200"/>
            </a:avLst>
          </a:prstGeom>
          <a:solidFill>
            <a:srgbClr val="9900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CENTROS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00160" y="4246560"/>
            <a:ext cx="152856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AÍS VAS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BDEE0-58AF-4C14-B393-9938317C127A}" type="slidenum">
              <a:t>18</a:t>
            </a:fld>
          </a:p>
        </p:txBody>
      </p:sp>
    </p:spTree>
  </p:cSld>
  <p:transition spd="med">
    <p:strips dir="l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428840" y="549360"/>
            <a:ext cx="7772400" cy="792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002f"/>
              </a:gs>
              <a:gs pos="100000">
                <a:srgbClr val="000066"/>
              </a:gs>
            </a:gsLst>
            <a:lin ang="81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L ASEGURAMIEN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427040" y="1557360"/>
            <a:ext cx="7772400" cy="4680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ISO 9000 establece los </a:t>
            </a:r>
            <a:r>
              <a:rPr b="0" i="1" lang="es-ES_tradnl" sz="2200" spc="-1" strike="noStrike">
                <a:solidFill>
                  <a:srgbClr val="ffffff"/>
                </a:solidFill>
                <a:latin typeface="Arial"/>
              </a:rPr>
              <a:t>requisitos de un sistema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 de gestión de la calida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Se certifica mediante </a:t>
            </a:r>
            <a:r>
              <a:rPr b="0" i="1" lang="es-ES_tradnl" sz="2200" spc="-1" strike="noStrike">
                <a:solidFill>
                  <a:srgbClr val="ffffff"/>
                </a:solidFill>
                <a:latin typeface="Arial"/>
              </a:rPr>
              <a:t>auditoría exter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Proporciona confianza en la </a:t>
            </a:r>
            <a:r>
              <a:rPr b="0" i="1" lang="es-ES_tradnl" sz="2200" spc="-1" strike="noStrike">
                <a:solidFill>
                  <a:srgbClr val="ffffff"/>
                </a:solidFill>
                <a:latin typeface="Arial"/>
              </a:rPr>
              <a:t>capacidad de ofrecer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 productos y servicios de acuerdo con los </a:t>
            </a:r>
            <a:r>
              <a:rPr b="0" i="1" lang="es-ES_tradnl" sz="2200" spc="-1" strike="noStrike">
                <a:solidFill>
                  <a:srgbClr val="ffffff"/>
                </a:solidFill>
                <a:latin typeface="Arial"/>
              </a:rPr>
              <a:t>requisitos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 de los client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El modelo requiere 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Establecer </a:t>
            </a:r>
            <a:r>
              <a:rPr b="0" i="1" lang="es-ES_tradnl" sz="2200" spc="-1" strike="noStrike">
                <a:solidFill>
                  <a:srgbClr val="ffffff"/>
                </a:solidFill>
                <a:latin typeface="Arial"/>
              </a:rPr>
              <a:t>especificaciones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 de servicios y proces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Fijar </a:t>
            </a:r>
            <a:r>
              <a:rPr b="0" i="1" lang="es-ES_tradnl" sz="2200" spc="-1" strike="noStrike">
                <a:solidFill>
                  <a:srgbClr val="ffffff"/>
                </a:solidFill>
                <a:latin typeface="Arial"/>
              </a:rPr>
              <a:t>objetivos o niveles de calidad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 a logr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Verificar o </a:t>
            </a:r>
            <a:r>
              <a:rPr b="0" i="1" lang="es-ES_tradnl" sz="2200" spc="-1" strike="noStrike">
                <a:solidFill>
                  <a:srgbClr val="ffffff"/>
                </a:solidFill>
                <a:latin typeface="Arial"/>
              </a:rPr>
              <a:t>controlar 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si son lograd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_tradnl" sz="2200" spc="-1" strike="noStrike">
                <a:solidFill>
                  <a:srgbClr val="ffffff"/>
                </a:solidFill>
                <a:latin typeface="Arial"/>
              </a:rPr>
              <a:t>Registrar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 las </a:t>
            </a:r>
            <a:r>
              <a:rPr b="0" i="1" lang="es-ES_tradnl" sz="2200" spc="-1" strike="noStrike">
                <a:solidFill>
                  <a:srgbClr val="ffffff"/>
                </a:solidFill>
                <a:latin typeface="Arial"/>
              </a:rPr>
              <a:t>desviacion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Mejorar con </a:t>
            </a:r>
            <a:r>
              <a:rPr b="0" i="1" lang="es-ES_tradnl" sz="2200" spc="-1" strike="noStrike">
                <a:solidFill>
                  <a:srgbClr val="ffffff"/>
                </a:solidFill>
                <a:latin typeface="Arial"/>
              </a:rPr>
              <a:t>acciones correctivas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 y  de mejor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429920" y="189000"/>
            <a:ext cx="10371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ISO 9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1352520" cy="765000"/>
          </a:xfrm>
          <a:prstGeom prst="rightArrow">
            <a:avLst>
              <a:gd name="adj1" fmla="val 50000"/>
              <a:gd name="adj2" fmla="val 44200"/>
            </a:avLst>
          </a:prstGeom>
          <a:solidFill>
            <a:srgbClr val="9900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CENTROS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371B3-094A-4966-A89E-BE346FB386CB}" type="slidenum">
              <a:t>19</a:t>
            </a:fld>
          </a:p>
        </p:txBody>
      </p:sp>
    </p:spTree>
  </p:cSld>
  <p:transition spd="med">
    <p:strips dir="l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737240" y="547560"/>
            <a:ext cx="4952880" cy="505080"/>
          </a:xfrm>
          <a:prstGeom prst="rect">
            <a:avLst/>
          </a:prstGeom>
          <a:solidFill>
            <a:srgbClr val="80008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lidad de la FP en 3 niv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41400" y="1557360"/>
            <a:ext cx="76485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81000" indent="-1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000" indent="-1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o básico, l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ormación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que impartimos, nuestro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oducto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oceso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educativos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000" indent="-1584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000" indent="-1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entros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son quienes pueden y deben asegurar la calidad de la formación que impart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000" indent="-1584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000" indent="-1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istema de FP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que debe asumir el liderazgo y la cohesión del proces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4520" y="1916280"/>
            <a:ext cx="1352520" cy="793440"/>
          </a:xfrm>
          <a:prstGeom prst="rightArrow">
            <a:avLst>
              <a:gd name="adj1" fmla="val 50000"/>
              <a:gd name="adj2" fmla="val 42616"/>
            </a:avLst>
          </a:prstGeom>
          <a:solidFill>
            <a:srgbClr val="0066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ORMACIÓN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4520" y="2924280"/>
            <a:ext cx="1352520" cy="765000"/>
          </a:xfrm>
          <a:prstGeom prst="rightArrow">
            <a:avLst>
              <a:gd name="adj1" fmla="val 50000"/>
              <a:gd name="adj2" fmla="val 44200"/>
            </a:avLst>
          </a:prstGeom>
          <a:solidFill>
            <a:srgbClr val="9900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CENTROS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520" y="4005360"/>
            <a:ext cx="1352520" cy="792000"/>
          </a:xfrm>
          <a:prstGeom prst="rightArrow">
            <a:avLst>
              <a:gd name="adj1" fmla="val 50000"/>
              <a:gd name="adj2" fmla="val 42693"/>
            </a:avLst>
          </a:prstGeom>
          <a:solidFill>
            <a:srgbClr val="ff505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ISTEM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DB05B-7229-4A05-8716-ED856A486A38}" type="slidenum">
              <a:t>2</a:t>
            </a:fld>
          </a:p>
        </p:txBody>
      </p:sp>
    </p:spTree>
  </p:cSld>
  <p:transition spd="med">
    <p:strips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4716360" y="3270240"/>
            <a:ext cx="502920" cy="2521080"/>
            <a:chOff x="4716360" y="3270240"/>
            <a:chExt cx="502920" cy="2521080"/>
          </a:xfrm>
        </p:grpSpPr>
        <p:sp>
          <p:nvSpPr>
            <p:cNvPr id="306" name=""/>
            <p:cNvSpPr/>
            <p:nvPr/>
          </p:nvSpPr>
          <p:spPr>
            <a:xfrm>
              <a:off x="4716360" y="3270240"/>
              <a:ext cx="0" cy="2521080"/>
            </a:xfrm>
            <a:prstGeom prst="line">
              <a:avLst/>
            </a:prstGeom>
            <a:ln w="1908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16360" y="5791320"/>
              <a:ext cx="502920" cy="0"/>
            </a:xfrm>
            <a:prstGeom prst="line">
              <a:avLst/>
            </a:prstGeom>
            <a:ln w="19080">
              <a:solidFill>
                <a:srgbClr val="ffff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16360" y="3846600"/>
              <a:ext cx="502920" cy="0"/>
            </a:xfrm>
            <a:prstGeom prst="line">
              <a:avLst/>
            </a:prstGeom>
            <a:ln w="19080">
              <a:solidFill>
                <a:srgbClr val="ffff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870120" y="549360"/>
            <a:ext cx="77342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DOCUMENTACIÓN DEL SISTE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44720" y="1487520"/>
            <a:ext cx="244620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>
            <a:spAutoFit/>
          </a:bodyPr>
          <a:p>
            <a:pPr algn="ctr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Documentos descriptiv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46160" y="3760920"/>
            <a:ext cx="244620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>
            <a:spAutoFit/>
          </a:bodyPr>
          <a:p>
            <a:pPr algn="ctr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Documentos Operativ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46160" y="5219640"/>
            <a:ext cx="244620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>
            <a:spAutoFit/>
          </a:bodyPr>
          <a:p>
            <a:pPr algn="ctr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videnci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02160" y="1182600"/>
            <a:ext cx="4317840" cy="36036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00"/>
                </a:solidFill>
                <a:latin typeface="Arial"/>
                <a:ea typeface="Times New Roman"/>
              </a:rPr>
              <a:t>Manual de Calid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653080" y="1697040"/>
            <a:ext cx="316692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00"/>
                </a:solidFill>
                <a:latin typeface="Arial"/>
                <a:ea typeface="Times New Roman"/>
              </a:rPr>
              <a:t>Política de calid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>
            <a:hlinkClick r:id="" action="ppaction://hlinkshowjump?jump=nextslide"/>
          </p:cNvPr>
          <p:cNvSpPr/>
          <p:nvPr/>
        </p:nvSpPr>
        <p:spPr>
          <a:xfrm>
            <a:off x="5653080" y="2212920"/>
            <a:ext cx="3166920" cy="51768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00"/>
                </a:solidFill>
                <a:latin typeface="Arial"/>
                <a:ea typeface="Times New Roman"/>
              </a:rPr>
              <a:t>Procedimiento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00"/>
                </a:solidFill>
                <a:latin typeface="Arial"/>
                <a:ea typeface="Times New Roman"/>
              </a:rPr>
              <a:t>comunes a varios proces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02160" y="2941560"/>
            <a:ext cx="431784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00"/>
                </a:solidFill>
                <a:latin typeface="Arial"/>
                <a:ea typeface="Times New Roman"/>
              </a:rPr>
              <a:t>Fichas de Procesos </a:t>
            </a:r>
            <a:r>
              <a:rPr b="1" lang="es-ES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(por proceso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64000" y="3457440"/>
            <a:ext cx="3456000" cy="946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marL="2700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Documentos de apoyo: </a:t>
            </a:r>
            <a:r>
              <a:rPr b="0" lang="es-ES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Instrucciones operativas, programas y documentos de origen externo 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502160" y="4614840"/>
            <a:ext cx="431784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00"/>
                </a:solidFill>
                <a:latin typeface="Arial"/>
                <a:ea typeface="Times New Roman"/>
              </a:rPr>
              <a:t>Hoja Gestión de Indicadores y objetivos </a:t>
            </a:r>
            <a:r>
              <a:rPr b="1" lang="es-ES" sz="1000" spc="-1" strike="noStrike">
                <a:solidFill>
                  <a:srgbClr val="333300"/>
                </a:solidFill>
                <a:latin typeface="Arial"/>
                <a:ea typeface="Times New Roman"/>
              </a:rPr>
              <a:t>(por proceso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02160" y="5130720"/>
            <a:ext cx="431784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00"/>
                </a:solidFill>
                <a:latin typeface="Arial"/>
                <a:ea typeface="Times New Roman"/>
              </a:rPr>
              <a:t>Hoja Aprendizaje y Mejora </a:t>
            </a:r>
            <a:r>
              <a:rPr b="1" lang="es-ES" sz="1000" spc="-1" strike="noStrike">
                <a:solidFill>
                  <a:srgbClr val="333300"/>
                </a:solidFill>
                <a:latin typeface="Arial"/>
                <a:ea typeface="Times New Roman"/>
              </a:rPr>
              <a:t>(por proceso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64000" y="5646600"/>
            <a:ext cx="3456000" cy="36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marL="46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Registr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27640" y="168588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Anexos</a:t>
            </a:r>
            <a:r>
              <a:rPr b="0" lang="es-ES" sz="1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08360" y="1123920"/>
            <a:ext cx="360360" cy="993960"/>
          </a:xfrm>
          <a:custGeom>
            <a:avLst/>
            <a:gdLst>
              <a:gd name="textAreaLeft" fmla="*/ 230400 w 360360"/>
              <a:gd name="textAreaRight" fmla="*/ 360720 w 360360"/>
              <a:gd name="textAreaTop" fmla="*/ 25920 h 993960"/>
              <a:gd name="textAreaBottom" fmla="*/ 968040 h 99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66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08360" y="2190600"/>
            <a:ext cx="360360" cy="3311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6040 h 3311640"/>
              <a:gd name="textAreaBottom" fmla="*/ 3225600 h 331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995640" y="4567320"/>
            <a:ext cx="360360" cy="1368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99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1280" y="404640"/>
            <a:ext cx="8569080" cy="0"/>
          </a:xfrm>
          <a:prstGeom prst="line">
            <a:avLst/>
          </a:prstGeom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1280" y="1054080"/>
            <a:ext cx="8569080" cy="0"/>
          </a:xfrm>
          <a:prstGeom prst="line">
            <a:avLst/>
          </a:prstGeom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2265E-61BB-4CBC-8751-2EA070C606DC}" type="slidenum">
              <a:t>20</a:t>
            </a:fld>
          </a:p>
        </p:txBody>
      </p:sp>
    </p:spTree>
  </p:cSld>
  <p:transition spd="med"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353960" y="549360"/>
            <a:ext cx="7772400" cy="792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002f"/>
              </a:gs>
              <a:gs pos="100000">
                <a:srgbClr val="000066"/>
              </a:gs>
            </a:gsLst>
            <a:lin ang="81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L ASEGURAMIENT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28840" y="2852640"/>
            <a:ext cx="7772400" cy="3168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El alcance a servici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secundari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para utilizar la certificación para mejorar la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ima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tentación de evitar las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no-conformidade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rebajando los obje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o se tienen por qué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uestionar los servici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ni la estrateg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o requiere una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line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entre el centro y el sist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55400" y="189000"/>
            <a:ext cx="10371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ISO 9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24160" y="1557360"/>
            <a:ext cx="7772400" cy="1008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Hacemos lo que decimos que hacemos y podemos demostrar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7240" y="2708280"/>
            <a:ext cx="4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baseline="4000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76160" y="162864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baseline="4000">
                <a:solidFill>
                  <a:srgbClr val="ffffff"/>
                </a:solidFill>
                <a:latin typeface="Arial Black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0"/>
            <a:ext cx="1352520" cy="765000"/>
          </a:xfrm>
          <a:prstGeom prst="rightArrow">
            <a:avLst>
              <a:gd name="adj1" fmla="val 50000"/>
              <a:gd name="adj2" fmla="val 44200"/>
            </a:avLst>
          </a:prstGeom>
          <a:solidFill>
            <a:srgbClr val="9900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CENTROS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3553D-D5A9-4F68-9462-7A5716E053BD}" type="slidenum">
              <a:t>21</a:t>
            </a:fld>
          </a:p>
        </p:txBody>
      </p:sp>
    </p:spTree>
  </p:cSld>
  <p:transition spd="med">
    <p:strips dir="l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282680" y="549360"/>
            <a:ext cx="7772400" cy="792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002f"/>
              </a:gs>
              <a:gs pos="100000">
                <a:srgbClr val="000066"/>
              </a:gs>
            </a:gsLst>
            <a:lin ang="81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CALIDAD TOTA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281240" y="1557360"/>
            <a:ext cx="8064360" cy="4751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Calidad “Total” se refiere a calidad en</a:t>
            </a:r>
            <a:r>
              <a:rPr b="0" i="1" lang="es-ES_tradnl" sz="2200" spc="-1" strike="noStrike">
                <a:solidFill>
                  <a:srgbClr val="ffffff"/>
                </a:solidFill>
                <a:latin typeface="Arial"/>
              </a:rPr>
              <a:t> toda 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la organiz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El objeto no es sólo mejorar la calidad de los servicios sino la </a:t>
            </a:r>
            <a:r>
              <a:rPr b="0" i="1" lang="es-ES_tradnl" sz="2200" spc="-1" strike="noStrike">
                <a:solidFill>
                  <a:srgbClr val="ffffff"/>
                </a:solidFill>
                <a:latin typeface="Arial"/>
              </a:rPr>
              <a:t>calidad del conjunto de la gest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ómo actúan los </a:t>
            </a:r>
            <a:r>
              <a:rPr b="0" i="1" lang="es-ES_tradnl" sz="1800" spc="-1" strike="noStrike">
                <a:solidFill>
                  <a:srgbClr val="ffffff"/>
                </a:solidFill>
                <a:latin typeface="Arial"/>
              </a:rPr>
              <a:t>líde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ómo se gestionan las </a:t>
            </a:r>
            <a:r>
              <a:rPr b="0" i="1" lang="es-ES_tradnl" sz="1800" spc="-1" strike="noStrike">
                <a:solidFill>
                  <a:srgbClr val="ffffff"/>
                </a:solidFill>
                <a:latin typeface="Arial"/>
              </a:rPr>
              <a:t>persona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, los </a:t>
            </a:r>
            <a:r>
              <a:rPr b="0" i="1" lang="es-ES_tradnl" sz="1800" spc="-1" strike="noStrike">
                <a:solidFill>
                  <a:srgbClr val="ffffff"/>
                </a:solidFill>
                <a:latin typeface="Arial"/>
              </a:rPr>
              <a:t>recurso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y los </a:t>
            </a:r>
            <a:r>
              <a:rPr b="0" i="1" lang="es-ES_tradnl" sz="1800" spc="-1" strike="noStrike">
                <a:solidFill>
                  <a:srgbClr val="ffffff"/>
                </a:solidFill>
                <a:latin typeface="Arial"/>
              </a:rPr>
              <a:t>proces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ómo se gestiona la </a:t>
            </a:r>
            <a:r>
              <a:rPr b="0" i="1" lang="es-ES_tradnl" sz="1800" spc="-1" strike="noStrike">
                <a:solidFill>
                  <a:srgbClr val="ffffff"/>
                </a:solidFill>
                <a:latin typeface="Arial"/>
              </a:rPr>
              <a:t>estrateg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Qué </a:t>
            </a:r>
            <a:r>
              <a:rPr b="0" i="1" lang="es-ES_tradnl" sz="1800" spc="-1" strike="noStrike">
                <a:solidFill>
                  <a:srgbClr val="ffffff"/>
                </a:solidFill>
                <a:latin typeface="Arial"/>
              </a:rPr>
              <a:t>resultado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se obtien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El modelo ofrece una serie de buenas prácticas para orientar la gest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Las organizaciones pueden </a:t>
            </a:r>
            <a:r>
              <a:rPr b="0" i="1" lang="es-ES_tradnl" sz="2200" spc="-1" strike="noStrike">
                <a:solidFill>
                  <a:srgbClr val="ffffff"/>
                </a:solidFill>
                <a:latin typeface="Arial"/>
              </a:rPr>
              <a:t>evaluarse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 comparando sus </a:t>
            </a:r>
            <a:r>
              <a:rPr b="0" i="1" lang="es-ES_tradnl" sz="2200" spc="-1" strike="noStrike">
                <a:solidFill>
                  <a:srgbClr val="ffffff"/>
                </a:solidFill>
                <a:latin typeface="Arial"/>
              </a:rPr>
              <a:t>evidencias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 de gestión con dicha buenas práctic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También pueden realizarse </a:t>
            </a:r>
            <a:r>
              <a:rPr b="0" i="1" lang="es-ES_tradnl" sz="2200" spc="-1" strike="noStrike">
                <a:solidFill>
                  <a:srgbClr val="ffffff"/>
                </a:solidFill>
                <a:latin typeface="Arial"/>
              </a:rPr>
              <a:t>evaluaciones externas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 mediante la presentación a </a:t>
            </a:r>
            <a:r>
              <a:rPr b="0" i="1" lang="es-ES_tradnl" sz="2200" spc="-1" strike="noStrike">
                <a:solidFill>
                  <a:srgbClr val="ffffff"/>
                </a:solidFill>
                <a:latin typeface="Arial"/>
              </a:rPr>
              <a:t>premi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283760" y="189000"/>
            <a:ext cx="7660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FQ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0"/>
            <a:ext cx="1352520" cy="765000"/>
          </a:xfrm>
          <a:prstGeom prst="rightArrow">
            <a:avLst>
              <a:gd name="adj1" fmla="val 50000"/>
              <a:gd name="adj2" fmla="val 44200"/>
            </a:avLst>
          </a:prstGeom>
          <a:solidFill>
            <a:srgbClr val="9900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CENTROS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1BE3F-EFA2-4793-9E75-B82A582182E0}" type="slidenum">
              <a:t>22</a:t>
            </a:fld>
          </a:p>
        </p:txBody>
      </p:sp>
    </p:spTree>
  </p:cSld>
  <p:transition spd="med">
    <p:strips dir="l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353960" y="549360"/>
            <a:ext cx="7772400" cy="792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002f"/>
              </a:gs>
              <a:gs pos="100000">
                <a:srgbClr val="000066"/>
              </a:gs>
            </a:gsLst>
            <a:lin ang="81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CALIDAD TOTA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352520" y="1628640"/>
            <a:ext cx="8064360" cy="4537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El elemento tractor en EFQM son los </a:t>
            </a:r>
            <a:r>
              <a:rPr b="0" i="1" lang="es-ES_tradnl" sz="2200" spc="-1" strike="noStrike">
                <a:solidFill>
                  <a:srgbClr val="ffffff"/>
                </a:solidFill>
                <a:latin typeface="Arial"/>
              </a:rPr>
              <a:t>resultados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; en ISO son los servici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uestiona lo que hacemos y </a:t>
            </a:r>
            <a:r>
              <a:rPr b="0" i="1" lang="es-ES_tradnl" sz="1800" spc="-1" strike="noStrike">
                <a:solidFill>
                  <a:srgbClr val="ffffff"/>
                </a:solidFill>
                <a:latin typeface="Arial"/>
              </a:rPr>
              <a:t>qué debemo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hac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La estrategia establece qué resultados queremos logr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Los resultados que perseguimos deben estar orientados a dar beneficio o satisfacción a los </a:t>
            </a:r>
            <a:r>
              <a:rPr b="0" i="1" lang="es-ES_tradnl" sz="1800" spc="-1" strike="noStrike">
                <a:solidFill>
                  <a:srgbClr val="ffffff"/>
                </a:solidFill>
                <a:latin typeface="Arial"/>
              </a:rPr>
              <a:t>grupos de interé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EFQM no se presenta como un modelo </a:t>
            </a:r>
            <a:r>
              <a:rPr b="0" i="1" lang="es-ES_tradnl" sz="2200" spc="-1" strike="noStrike">
                <a:solidFill>
                  <a:srgbClr val="ffffff"/>
                </a:solidFill>
                <a:latin typeface="Arial"/>
              </a:rPr>
              <a:t>antagónico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 a ISO; de hecho EFQM la considera una buena práctica para estandarizar los proces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SO 9001 es útil para diseñar los procesos y auditarlos periódicam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EFQM no es sólo un modelo de </a:t>
            </a:r>
            <a:r>
              <a:rPr b="0" i="1" lang="es-ES_tradnl" sz="2200" spc="-1" strike="noStrike">
                <a:solidFill>
                  <a:srgbClr val="ffffff"/>
                </a:solidFill>
                <a:latin typeface="Arial"/>
              </a:rPr>
              <a:t>autoevaluación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; sobre todo es un </a:t>
            </a:r>
            <a:r>
              <a:rPr b="0" i="1" lang="es-ES_tradnl" sz="2200" spc="-1" strike="noStrike">
                <a:solidFill>
                  <a:srgbClr val="ffffff"/>
                </a:solidFill>
                <a:latin typeface="Arial"/>
              </a:rPr>
              <a:t>modelo de gest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355040" y="189000"/>
            <a:ext cx="7660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FQ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0"/>
            <a:ext cx="1352520" cy="765000"/>
          </a:xfrm>
          <a:prstGeom prst="rightArrow">
            <a:avLst>
              <a:gd name="adj1" fmla="val 50000"/>
              <a:gd name="adj2" fmla="val 44200"/>
            </a:avLst>
          </a:prstGeom>
          <a:solidFill>
            <a:srgbClr val="9900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CENTROS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C9B5B-50F3-47EB-8D60-AEBE258F8BA6}" type="slidenum">
              <a:t>23</a:t>
            </a:fld>
          </a:p>
        </p:txBody>
      </p:sp>
    </p:spTree>
  </p:cSld>
  <p:transition spd="med">
    <p:strips dir="l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62120" y="404640"/>
            <a:ext cx="8439120" cy="503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EFQ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977760" y="1268280"/>
            <a:ext cx="8078760" cy="4471200"/>
            <a:chOff x="977760" y="1268280"/>
            <a:chExt cx="8078760" cy="4471200"/>
          </a:xfrm>
        </p:grpSpPr>
        <p:sp>
          <p:nvSpPr>
            <p:cNvPr id="344" name=""/>
            <p:cNvSpPr/>
            <p:nvPr/>
          </p:nvSpPr>
          <p:spPr>
            <a:xfrm>
              <a:off x="5635440" y="1291320"/>
              <a:ext cx="3421080" cy="473400"/>
            </a:xfrm>
            <a:custGeom>
              <a:avLst/>
              <a:gdLst>
                <a:gd name="textAreaLeft" fmla="*/ 187560 w 3421080"/>
                <a:gd name="textAreaRight" fmla="*/ 3233520 w 3421080"/>
                <a:gd name="textAreaTop" fmla="*/ 104760 h 473400"/>
                <a:gd name="textAreaBottom" fmla="*/ 368640 h 47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790"/>
                  </a:moveTo>
                  <a:lnTo>
                    <a:pt x="19472" y="4790"/>
                  </a:lnTo>
                  <a:lnTo>
                    <a:pt x="19472" y="0"/>
                  </a:lnTo>
                  <a:lnTo>
                    <a:pt x="21600" y="10800"/>
                  </a:lnTo>
                  <a:lnTo>
                    <a:pt x="19472" y="21600"/>
                  </a:lnTo>
                  <a:lnTo>
                    <a:pt x="19472" y="16810"/>
                  </a:lnTo>
                  <a:lnTo>
                    <a:pt x="0" y="16810"/>
                  </a:lnTo>
                  <a:lnTo>
                    <a:pt x="1184" y="10800"/>
                  </a:lnTo>
                  <a:lnTo>
                    <a:pt x="0" y="4790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313320" y="1388520"/>
              <a:ext cx="224964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R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E</a:t>
              </a:r>
              <a:r>
                <a:rPr b="1" lang="es-ES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SULT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004760" y="1268280"/>
              <a:ext cx="4394160" cy="473400"/>
            </a:xfrm>
            <a:custGeom>
              <a:avLst/>
              <a:gdLst>
                <a:gd name="textAreaLeft" fmla="*/ 209160 w 4394160"/>
                <a:gd name="textAreaRight" fmla="*/ 4185000 w 4394160"/>
                <a:gd name="textAreaTop" fmla="*/ 104400 h 473400"/>
                <a:gd name="textAreaBottom" fmla="*/ 369000 h 47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761"/>
                  </a:moveTo>
                  <a:lnTo>
                    <a:pt x="19760" y="4761"/>
                  </a:lnTo>
                  <a:lnTo>
                    <a:pt x="19760" y="0"/>
                  </a:lnTo>
                  <a:lnTo>
                    <a:pt x="21600" y="10800"/>
                  </a:lnTo>
                  <a:lnTo>
                    <a:pt x="19760" y="21600"/>
                  </a:lnTo>
                  <a:lnTo>
                    <a:pt x="19760" y="16839"/>
                  </a:lnTo>
                  <a:lnTo>
                    <a:pt x="0" y="16839"/>
                  </a:lnTo>
                  <a:lnTo>
                    <a:pt x="1029" y="10800"/>
                  </a:lnTo>
                  <a:lnTo>
                    <a:pt x="0" y="4761"/>
                  </a:lnTo>
                  <a:close/>
                </a:path>
              </a:pathLst>
            </a:custGeom>
            <a:solidFill>
              <a:srgbClr val="cc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527120" y="1364760"/>
              <a:ext cx="3414600" cy="3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GENTES FACILITADOR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1004760" y="5330160"/>
              <a:ext cx="7981920" cy="409320"/>
              <a:chOff x="1004760" y="5330160"/>
              <a:chExt cx="7981920" cy="409320"/>
            </a:xfrm>
          </p:grpSpPr>
          <p:sp>
            <p:nvSpPr>
              <p:cNvPr id="349" name=""/>
              <p:cNvSpPr/>
              <p:nvPr/>
            </p:nvSpPr>
            <p:spPr>
              <a:xfrm rot="10800000">
                <a:off x="1004760" y="5329800"/>
                <a:ext cx="7981920" cy="409320"/>
              </a:xfrm>
              <a:custGeom>
                <a:avLst/>
                <a:gdLst>
                  <a:gd name="textAreaLeft" fmla="*/ 223920 w 7981920"/>
                  <a:gd name="textAreaRight" fmla="*/ 7758000 w 7981920"/>
                  <a:gd name="textAreaTop" fmla="*/ 86760 h 409320"/>
                  <a:gd name="textAreaBottom" fmla="*/ 322560 h 409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4584"/>
                    </a:moveTo>
                    <a:lnTo>
                      <a:pt x="20547" y="4584"/>
                    </a:lnTo>
                    <a:lnTo>
                      <a:pt x="20547" y="0"/>
                    </a:lnTo>
                    <a:lnTo>
                      <a:pt x="21600" y="10800"/>
                    </a:lnTo>
                    <a:lnTo>
                      <a:pt x="20547" y="21600"/>
                    </a:lnTo>
                    <a:lnTo>
                      <a:pt x="20547" y="17016"/>
                    </a:lnTo>
                    <a:lnTo>
                      <a:pt x="0" y="17016"/>
                    </a:lnTo>
                    <a:lnTo>
                      <a:pt x="606" y="10800"/>
                    </a:lnTo>
                    <a:lnTo>
                      <a:pt x="0" y="4584"/>
                    </a:lnTo>
                    <a:close/>
                  </a:path>
                </a:pathLst>
              </a:custGeom>
              <a:solidFill>
                <a:srgbClr val="0066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417840" y="5392080"/>
                <a:ext cx="449568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I</a:t>
                </a:r>
                <a:r>
                  <a:rPr b="1" lang="es-ES_tradnl" sz="14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N</a:t>
                </a:r>
                <a:r>
                  <a:rPr b="1" lang="es-ES" sz="14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NOVACIÓN Y APRENDIZAJ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1969920" y="2360880"/>
              <a:ext cx="5943600" cy="2403360"/>
              <a:chOff x="1969920" y="2360880"/>
              <a:chExt cx="5943600" cy="2403360"/>
            </a:xfrm>
          </p:grpSpPr>
          <p:sp>
            <p:nvSpPr>
              <p:cNvPr id="352" name=""/>
              <p:cNvSpPr/>
              <p:nvPr/>
            </p:nvSpPr>
            <p:spPr>
              <a:xfrm>
                <a:off x="6313320" y="2678760"/>
                <a:ext cx="354240" cy="176724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60640" y="2678760"/>
                <a:ext cx="353880" cy="176724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969920" y="4526280"/>
                <a:ext cx="5867640" cy="2379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046240" y="3401640"/>
                <a:ext cx="5867280" cy="23724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969920" y="2360880"/>
                <a:ext cx="5867640" cy="23724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2462040" y="2094840"/>
              <a:ext cx="1347840" cy="796320"/>
              <a:chOff x="2462040" y="2094840"/>
              <a:chExt cx="1347840" cy="796320"/>
            </a:xfrm>
          </p:grpSpPr>
          <p:sp>
            <p:nvSpPr>
              <p:cNvPr id="358" name=""/>
              <p:cNvSpPr/>
              <p:nvPr/>
            </p:nvSpPr>
            <p:spPr>
              <a:xfrm>
                <a:off x="2462040" y="2094840"/>
                <a:ext cx="1347840" cy="796320"/>
              </a:xfrm>
              <a:prstGeom prst="rect">
                <a:avLst/>
              </a:prstGeom>
              <a:solidFill>
                <a:srgbClr val="00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552760" y="2176560"/>
                <a:ext cx="1060200" cy="641520"/>
              </a:xfrm>
              <a:prstGeom prst="rect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333300"/>
                    </a:solidFill>
                    <a:latin typeface="Times New Roman"/>
                    <a:ea typeface="Times New Roman"/>
                  </a:rPr>
                  <a:t>GESTIÓN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333300"/>
                    </a:solidFill>
                    <a:latin typeface="Times New Roman"/>
                    <a:ea typeface="Times New Roman"/>
                  </a:rPr>
                  <a:t>PERSONA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333300"/>
                    </a:solidFill>
                    <a:latin typeface="Times New Roman"/>
                    <a:ea typeface="Times New Roman"/>
                  </a:rPr>
                  <a:t>9 %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977760" y="2094840"/>
              <a:ext cx="1157400" cy="2962080"/>
              <a:chOff x="977760" y="2094840"/>
              <a:chExt cx="1157400" cy="2962080"/>
            </a:xfrm>
          </p:grpSpPr>
          <p:sp>
            <p:nvSpPr>
              <p:cNvPr id="361" name=""/>
              <p:cNvSpPr/>
              <p:nvPr/>
            </p:nvSpPr>
            <p:spPr>
              <a:xfrm>
                <a:off x="977760" y="2094840"/>
                <a:ext cx="1157400" cy="2962080"/>
              </a:xfrm>
              <a:prstGeom prst="rect">
                <a:avLst/>
              </a:prstGeom>
              <a:solidFill>
                <a:srgbClr val="ff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977760" y="3318480"/>
                <a:ext cx="1157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333300"/>
                    </a:solidFill>
                    <a:latin typeface="Times New Roman"/>
                    <a:ea typeface="Times New Roman"/>
                  </a:rPr>
                  <a:t>LIDERAZG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333300"/>
                    </a:solidFill>
                    <a:latin typeface="Times New Roman"/>
                    <a:ea typeface="Times New Roman"/>
                  </a:rPr>
                  <a:t>10 %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2462040" y="3157560"/>
              <a:ext cx="1347840" cy="796320"/>
              <a:chOff x="2462040" y="3157560"/>
              <a:chExt cx="1347840" cy="796320"/>
            </a:xfrm>
          </p:grpSpPr>
          <p:sp>
            <p:nvSpPr>
              <p:cNvPr id="364" name=""/>
              <p:cNvSpPr/>
              <p:nvPr/>
            </p:nvSpPr>
            <p:spPr>
              <a:xfrm>
                <a:off x="2462040" y="3157560"/>
                <a:ext cx="1347840" cy="7963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494080" y="3224520"/>
                <a:ext cx="1285560" cy="641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333300"/>
                    </a:solidFill>
                    <a:latin typeface="Times New Roman"/>
                    <a:ea typeface="Times New Roman"/>
                  </a:rPr>
                  <a:t>POLÍTICA Y ESTRATEGI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333300"/>
                    </a:solidFill>
                    <a:latin typeface="Times New Roman"/>
                    <a:ea typeface="Times New Roman"/>
                  </a:rPr>
                  <a:t>8 %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2462040" y="4220640"/>
              <a:ext cx="1347840" cy="834840"/>
              <a:chOff x="2462040" y="4220640"/>
              <a:chExt cx="1347840" cy="834840"/>
            </a:xfrm>
          </p:grpSpPr>
          <p:sp>
            <p:nvSpPr>
              <p:cNvPr id="367" name=""/>
              <p:cNvSpPr/>
              <p:nvPr/>
            </p:nvSpPr>
            <p:spPr>
              <a:xfrm>
                <a:off x="2462040" y="4220640"/>
                <a:ext cx="1347840" cy="834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552760" y="4302360"/>
                <a:ext cx="1226880" cy="64152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333300"/>
                    </a:solidFill>
                    <a:latin typeface="Times New Roman"/>
                    <a:ea typeface="Times New Roman"/>
                  </a:rPr>
                  <a:t>ALIANZAS Y RECURSO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333300"/>
                    </a:solidFill>
                    <a:latin typeface="Times New Roman"/>
                    <a:ea typeface="Times New Roman"/>
                  </a:rPr>
                  <a:t>9 %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4137120" y="2094840"/>
              <a:ext cx="1228680" cy="2962080"/>
              <a:chOff x="4137120" y="2094840"/>
              <a:chExt cx="1228680" cy="2962080"/>
            </a:xfrm>
          </p:grpSpPr>
          <p:sp>
            <p:nvSpPr>
              <p:cNvPr id="370" name=""/>
              <p:cNvSpPr/>
              <p:nvPr/>
            </p:nvSpPr>
            <p:spPr>
              <a:xfrm>
                <a:off x="4137120" y="2094840"/>
                <a:ext cx="1228680" cy="296208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232160" y="3318480"/>
                <a:ext cx="1085760" cy="45900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333300"/>
                    </a:solidFill>
                    <a:latin typeface="Times New Roman"/>
                    <a:ea typeface="Times New Roman"/>
                  </a:rPr>
                  <a:t>PROCESO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333300"/>
                    </a:solidFill>
                    <a:latin typeface="Times New Roman"/>
                    <a:ea typeface="Times New Roman"/>
                  </a:rPr>
                  <a:t>14 %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5680080" y="3157560"/>
              <a:ext cx="1701720" cy="796320"/>
              <a:chOff x="5680080" y="3157560"/>
              <a:chExt cx="1701720" cy="796320"/>
            </a:xfrm>
          </p:grpSpPr>
          <p:sp>
            <p:nvSpPr>
              <p:cNvPr id="373" name=""/>
              <p:cNvSpPr/>
              <p:nvPr/>
            </p:nvSpPr>
            <p:spPr>
              <a:xfrm>
                <a:off x="5680080" y="3157560"/>
                <a:ext cx="1701720" cy="7963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791320" y="3224520"/>
                <a:ext cx="1527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333300"/>
                    </a:solidFill>
                    <a:latin typeface="Times New Roman"/>
                    <a:ea typeface="Times New Roman"/>
                  </a:rPr>
                  <a:t>RESULTADOS EN CLIENTE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333300"/>
                    </a:solidFill>
                    <a:latin typeface="Times New Roman"/>
                    <a:ea typeface="Times New Roman"/>
                  </a:rPr>
                  <a:t>20 %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5680080" y="2093400"/>
              <a:ext cx="1701720" cy="797760"/>
              <a:chOff x="5680080" y="2093400"/>
              <a:chExt cx="1701720" cy="797760"/>
            </a:xfrm>
          </p:grpSpPr>
          <p:sp>
            <p:nvSpPr>
              <p:cNvPr id="376" name=""/>
              <p:cNvSpPr/>
              <p:nvPr/>
            </p:nvSpPr>
            <p:spPr>
              <a:xfrm>
                <a:off x="5680080" y="2093400"/>
                <a:ext cx="1701720" cy="7977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775120" y="2211840"/>
                <a:ext cx="1559160" cy="6415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333300"/>
                    </a:solidFill>
                    <a:latin typeface="Times New Roman"/>
                    <a:ea typeface="Times New Roman"/>
                  </a:rPr>
                  <a:t>RESULTADOS EN PERSONA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333300"/>
                    </a:solidFill>
                    <a:latin typeface="Times New Roman"/>
                    <a:ea typeface="Times New Roman"/>
                  </a:rPr>
                  <a:t>9 %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7707240" y="2099880"/>
              <a:ext cx="1349280" cy="2960640"/>
              <a:chOff x="7707240" y="2099880"/>
              <a:chExt cx="1349280" cy="2960640"/>
            </a:xfrm>
          </p:grpSpPr>
          <p:sp>
            <p:nvSpPr>
              <p:cNvPr id="379" name=""/>
              <p:cNvSpPr/>
              <p:nvPr/>
            </p:nvSpPr>
            <p:spPr>
              <a:xfrm>
                <a:off x="7707240" y="2099880"/>
                <a:ext cx="1349280" cy="296064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761240" y="3156120"/>
                <a:ext cx="1285920" cy="6415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333300"/>
                    </a:solidFill>
                    <a:latin typeface="Times New Roman"/>
                    <a:ea typeface="Times New Roman"/>
                  </a:rPr>
                  <a:t>RESULTADOS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333300"/>
                    </a:solidFill>
                    <a:latin typeface="Times New Roman"/>
                    <a:ea typeface="Times New Roman"/>
                  </a:rPr>
                  <a:t>CLAV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333300"/>
                    </a:solidFill>
                    <a:latin typeface="Times New Roman"/>
                    <a:ea typeface="Times New Roman"/>
                  </a:rPr>
                  <a:t>15 %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5680080" y="4220640"/>
              <a:ext cx="1701720" cy="834840"/>
              <a:chOff x="5680080" y="4220640"/>
              <a:chExt cx="1701720" cy="834840"/>
            </a:xfrm>
          </p:grpSpPr>
          <p:sp>
            <p:nvSpPr>
              <p:cNvPr id="382" name=""/>
              <p:cNvSpPr/>
              <p:nvPr/>
            </p:nvSpPr>
            <p:spPr>
              <a:xfrm>
                <a:off x="5680080" y="4220640"/>
                <a:ext cx="1701720" cy="83484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759280" y="4337640"/>
                <a:ext cx="1575000" cy="64152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333300"/>
                    </a:solidFill>
                    <a:latin typeface="Times New Roman"/>
                    <a:ea typeface="Times New Roman"/>
                  </a:rPr>
                  <a:t>RESULTADOS EN LA SOCIEDA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333300"/>
                    </a:solidFill>
                    <a:latin typeface="Times New Roman"/>
                    <a:ea typeface="Times New Roman"/>
                  </a:rPr>
                  <a:t>6 %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73DC4-EFBF-4637-A4AC-2DF344E1AB41}" type="slidenum">
              <a:t>24</a:t>
            </a:fld>
          </a:p>
        </p:txBody>
      </p:sp>
    </p:spTree>
  </p:cSld>
  <p:transition spd="med">
    <p:strips dir="ld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8" dur="1" fill="hold"/>
                                  <p:tgtEl>
                                    <p:spTgt spid="3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574640" y="549360"/>
            <a:ext cx="7772400" cy="792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002f"/>
              </a:gs>
              <a:gs pos="100000">
                <a:srgbClr val="000066"/>
              </a:gs>
            </a:gsLst>
            <a:lin ang="81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L MODELO EFQ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44480" y="2637000"/>
            <a:ext cx="7772400" cy="3528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Las </a:t>
            </a:r>
            <a:r>
              <a:rPr b="0" i="1" lang="es-ES_tradnl" sz="2200" spc="-1" strike="noStrike">
                <a:solidFill>
                  <a:srgbClr val="ffffff"/>
                </a:solidFill>
                <a:latin typeface="Arial"/>
              </a:rPr>
              <a:t>adaptaciones 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del modelo a educación han tendido a restarle contenid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ffffff"/>
                </a:solidFill>
                <a:latin typeface="Arial"/>
              </a:rPr>
              <a:t>La confusión en las evaluaciones internas por la</a:t>
            </a:r>
            <a:r>
              <a:rPr b="0" i="1" lang="es-ES_tradnl" sz="2200" spc="-1" strike="noStrike">
                <a:solidFill>
                  <a:srgbClr val="ffffff"/>
                </a:solidFill>
                <a:latin typeface="Arial"/>
              </a:rPr>
              <a:t> diferente percepción 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respecto a las evidenci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Las</a:t>
            </a:r>
            <a:r>
              <a:rPr b="0" i="1" lang="es-ES_tradnl" sz="2200" spc="-1" strike="noStrike">
                <a:solidFill>
                  <a:srgbClr val="ffffff"/>
                </a:solidFill>
                <a:latin typeface="Arial"/>
              </a:rPr>
              <a:t> puntuaciones 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asociadas a las evaluaciones extern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La elaboración de las </a:t>
            </a:r>
            <a:r>
              <a:rPr b="0" i="1" lang="es-ES_tradnl" sz="2200" spc="-1" strike="noStrike">
                <a:solidFill>
                  <a:srgbClr val="ffffff"/>
                </a:solidFill>
                <a:latin typeface="Arial"/>
              </a:rPr>
              <a:t>memorias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 es muy complej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Difícil </a:t>
            </a:r>
            <a:r>
              <a:rPr b="0" i="1" lang="es-ES_tradnl" sz="2200" spc="-1" strike="noStrike">
                <a:solidFill>
                  <a:srgbClr val="ffffff"/>
                </a:solidFill>
                <a:latin typeface="Arial"/>
              </a:rPr>
              <a:t>alineación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 entre los centros y el sistem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i="1" lang="es-ES_tradnl" sz="2200" spc="-1" strike="noStrike">
                <a:solidFill>
                  <a:srgbClr val="ffffff"/>
                </a:solidFill>
                <a:latin typeface="Arial"/>
              </a:rPr>
              <a:t>contribución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 al sistema frente a la </a:t>
            </a:r>
            <a:r>
              <a:rPr b="0" i="1" lang="es-ES_tradnl" sz="2200" spc="-1" strike="noStrike">
                <a:solidFill>
                  <a:srgbClr val="ffffff"/>
                </a:solidFill>
                <a:latin typeface="Arial"/>
              </a:rPr>
              <a:t>comparación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 con el mej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i="1" lang="es-ES_tradnl" sz="2200" spc="-1" strike="noStrike">
                <a:solidFill>
                  <a:srgbClr val="ffffff"/>
                </a:solidFill>
                <a:latin typeface="Arial"/>
              </a:rPr>
              <a:t>lectura horizontal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 del modelo es más apropia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575720" y="189000"/>
            <a:ext cx="7660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FQ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44480" y="1484280"/>
            <a:ext cx="7772400" cy="1079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Hacemos cada vez mejor las cosas adecuad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Sabemos nuestras fortalezas y debilidades porque controlamos nuestros resultado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87920" y="2708280"/>
            <a:ext cx="4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baseline="4000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96840" y="162864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baseline="4000">
                <a:solidFill>
                  <a:srgbClr val="ffffff"/>
                </a:solidFill>
                <a:latin typeface="Arial Black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0"/>
            <a:ext cx="1352520" cy="765000"/>
          </a:xfrm>
          <a:prstGeom prst="rightArrow">
            <a:avLst>
              <a:gd name="adj1" fmla="val 50000"/>
              <a:gd name="adj2" fmla="val 44200"/>
            </a:avLst>
          </a:prstGeom>
          <a:solidFill>
            <a:srgbClr val="9900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CENTROS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2A93D-A402-4BAD-B0B3-40472FBE04E0}" type="slidenum">
              <a:t>25</a:t>
            </a:fld>
          </a:p>
        </p:txBody>
      </p:sp>
    </p:spTree>
  </p:cSld>
  <p:transition spd="med">
    <p:strips dir="l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2289240" y="2924280"/>
            <a:ext cx="6767280" cy="2881080"/>
          </a:xfrm>
          <a:prstGeom prst="rightArrow">
            <a:avLst>
              <a:gd name="adj1" fmla="val 50000"/>
              <a:gd name="adj2" fmla="val 58722"/>
            </a:avLst>
          </a:prstGeom>
          <a:solidFill>
            <a:srgbClr val="ff505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SISTEMA DE FP</a:t>
            </a: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060C6-5E35-415D-A34C-5C2860C18D1E}" type="slidenum">
              <a:t>26</a:t>
            </a:fld>
          </a:p>
        </p:txBody>
      </p:sp>
    </p:spTree>
  </p:cSld>
  <p:transition spd="med">
    <p:strips dir="l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5529240" y="260280"/>
            <a:ext cx="3887640" cy="42300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ALIDAD DEL SIST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4520" y="1541520"/>
            <a:ext cx="3456000" cy="27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marL="353880" indent="-3538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gestión de los centros condiciona los resultados de los cursos de Formación Profes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gestión del sistema de FP condiciona los resultados de los cent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376880" y="1773360"/>
            <a:ext cx="496728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marL="353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La misión del sistema no es sólo publicar  resoluciones y órdenes de boletín y esperar que los centros las cumplan, ni es repartir el dinero disponible de forma equitativ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3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Nuestra misión es </a:t>
            </a:r>
            <a:r>
              <a:rPr b="0" i="1" lang="es-ES_tradnl" sz="2000" spc="-1" strike="noStrike">
                <a:solidFill>
                  <a:srgbClr val="ffff00"/>
                </a:solidFill>
                <a:latin typeface="Arial"/>
              </a:rPr>
              <a:t>gestionar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s-ES_tradnl" sz="2000" spc="-1" strike="noStrike">
                <a:solidFill>
                  <a:srgbClr val="ffff00"/>
                </a:solidFill>
                <a:latin typeface="Arial"/>
              </a:rPr>
              <a:t>y liderar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el sist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4520" y="4734000"/>
            <a:ext cx="928836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GESTIONAR ES </a:t>
            </a:r>
            <a:r>
              <a:rPr b="1" i="1" lang="es-ES_tradnl" sz="3200" spc="-1" strike="noStrike">
                <a:solidFill>
                  <a:srgbClr val="ffff00"/>
                </a:solidFill>
                <a:latin typeface="Arial"/>
              </a:rPr>
              <a:t>HACER QUE LAS COSAS</a:t>
            </a: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REVISTAS</a:t>
            </a: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_tradnl" sz="3200" spc="-1" strike="noStrike">
                <a:solidFill>
                  <a:srgbClr val="ffff00"/>
                </a:solidFill>
                <a:latin typeface="Arial"/>
              </a:rPr>
              <a:t>SUCEDAN</a:t>
            </a: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REALMENT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44280"/>
            <a:ext cx="1352520" cy="863640"/>
          </a:xfrm>
          <a:prstGeom prst="rightArrow">
            <a:avLst>
              <a:gd name="adj1" fmla="val 50000"/>
              <a:gd name="adj2" fmla="val 39152"/>
            </a:avLst>
          </a:prstGeom>
          <a:solidFill>
            <a:srgbClr val="ff505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ISTEM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22F92-154B-4A31-A684-EBAC6BAA6900}" type="slidenum">
              <a:t>27</a:t>
            </a:fld>
          </a:p>
        </p:txBody>
      </p:sp>
    </p:spTree>
  </p:cSld>
  <p:transition spd="med">
    <p:strips dir="l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72880" y="981000"/>
            <a:ext cx="878544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LAS PREGUNTAS QUE NOS DEBEMOS HAC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31800" y="1484280"/>
            <a:ext cx="8712360" cy="11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¿Qué está sucediendo en nuestro sistema de FP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¿Qué queremos que suceda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¿Cómo haremos para que suced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857240" y="3430440"/>
            <a:ext cx="755964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marL="353880" indent="-3538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eñalar un norte expresado en términos de </a:t>
            </a: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objetivo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, cuantificables y medibles, basados en un conocimiento de lo que sucede (indicadores del sistem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linear a los diferentes actores del sistema desplegando los objetivos hacia los centros y entidades de la F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344520" y="3860640"/>
            <a:ext cx="1474920" cy="14749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1424160" y="2781360"/>
            <a:ext cx="79200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LAS RESPUESTAS QUE DEBEMOS D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529240" y="260280"/>
            <a:ext cx="3887640" cy="42300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ALIDAD DEL SIST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44280"/>
            <a:ext cx="1352520" cy="863640"/>
          </a:xfrm>
          <a:prstGeom prst="rightArrow">
            <a:avLst>
              <a:gd name="adj1" fmla="val 50000"/>
              <a:gd name="adj2" fmla="val 39152"/>
            </a:avLst>
          </a:prstGeom>
          <a:solidFill>
            <a:srgbClr val="ff505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ISTEM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150D1-A461-402E-8160-9497AF3DD095}" type="slidenum">
              <a:t>28</a:t>
            </a:fld>
          </a:p>
        </p:txBody>
      </p:sp>
    </p:spTree>
  </p:cSld>
  <p:transition spd="med">
    <p:strips dir="l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709560" y="1268280"/>
            <a:ext cx="7772400" cy="7923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002f"/>
              </a:gs>
              <a:gs pos="100000">
                <a:srgbClr val="000066"/>
              </a:gs>
            </a:gsLst>
            <a:lin ang="81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QUÉ ES CALIDA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55640" y="2205000"/>
            <a:ext cx="7772400" cy="3745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1116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480" indent="1116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mejora continua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y la innovación de los 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cursos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que ofrecemos y los 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procesos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implicados en la impartición de esos cursos, al objeto de 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añadir valor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al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aprendizaje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del alumnado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satisfacer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las expectativas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de los grupos de interés con el fin de mejorar los 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resultados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que, de acuerdo con nuestra misión o 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propósito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queremos obtene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0"/>
            <a:ext cx="2289240" cy="1052640"/>
          </a:xfrm>
          <a:prstGeom prst="rightArrow">
            <a:avLst>
              <a:gd name="adj1" fmla="val 50000"/>
              <a:gd name="adj2" fmla="val 54369"/>
            </a:avLst>
          </a:prstGeom>
          <a:solidFill>
            <a:srgbClr val="00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RESPONSABLES CALIDAD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BCE2E-8A6B-41B8-8217-A015534B2602}" type="slidenum">
              <a:t>29</a:t>
            </a:fld>
          </a:p>
        </p:txBody>
      </p:sp>
    </p:spTree>
  </p:cSld>
  <p:transition spd="med">
    <p:strips dir="l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9240" y="2924280"/>
            <a:ext cx="6767280" cy="2881080"/>
          </a:xfrm>
          <a:prstGeom prst="rightArrow">
            <a:avLst>
              <a:gd name="adj1" fmla="val 50000"/>
              <a:gd name="adj2" fmla="val 58722"/>
            </a:avLst>
          </a:prstGeom>
          <a:solidFill>
            <a:srgbClr val="0066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FORMACIÓN</a:t>
            </a: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3DD90-60AD-446B-B739-589A291F7931}" type="slidenum">
              <a:t>3</a:t>
            </a:fld>
          </a:p>
        </p:txBody>
      </p:sp>
    </p:spTree>
  </p:cSld>
  <p:transition spd="med">
    <p:strips dir="l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6840" y="609120"/>
            <a:ext cx="7772400" cy="11430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ESKERRIK ASKO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6840" y="1981080"/>
            <a:ext cx="7772400" cy="41148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GRACIAS POR SU ATEN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osana</a:t>
            </a:r>
            <a:r>
              <a:rPr b="0" lang="es-ES" sz="24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@agcalidadfp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ww.euskadi.net/lanbidez/ag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1015920" y="3284640"/>
            <a:ext cx="2133720" cy="196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DC8BE-DE7D-40D0-83E8-A1A0BA3435F3}" type="slidenum">
              <a:t>30</a:t>
            </a:fld>
          </a:p>
        </p:txBody>
      </p:sp>
    </p:spTree>
  </p:cSld>
  <p:transition spd="med">
    <p:strips dir="l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960800" y="2781360"/>
            <a:ext cx="4532400" cy="3238560"/>
          </a:xfrm>
          <a:prstGeom prst="rect">
            <a:avLst/>
          </a:prstGeom>
          <a:solidFill>
            <a:srgbClr val="00cc00"/>
          </a:solidFill>
          <a:ln w="3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cc"/>
                </a:solidFill>
                <a:latin typeface="Arial"/>
              </a:rPr>
              <a:t>APREN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cc"/>
                </a:solidFill>
                <a:latin typeface="Arial"/>
              </a:rPr>
              <a:t>SERVIC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cc"/>
                </a:solidFill>
                <a:latin typeface="Arial"/>
              </a:rPr>
              <a:t>ALUM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4280" y="2781360"/>
            <a:ext cx="4375080" cy="3238560"/>
          </a:xfrm>
          <a:prstGeom prst="rect">
            <a:avLst/>
          </a:prstGeom>
          <a:solidFill>
            <a:srgbClr val="00cc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Arial"/>
              </a:rPr>
              <a:t>ENSEÑ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Arial"/>
              </a:rPr>
              <a:t>AU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Arial"/>
              </a:rPr>
              <a:t>PROFES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2359080"/>
            <a:ext cx="6480" cy="373392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36880" y="404640"/>
            <a:ext cx="6696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i="1" lang="es-ES_tradnl" sz="2000" spc="-1" strike="noStrike">
                <a:solidFill>
                  <a:srgbClr val="ffcc00"/>
                </a:solidFill>
                <a:latin typeface="Arial"/>
              </a:rPr>
              <a:t>Todo es del color del cristal con que se m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ff33"/>
                </a:solidFill>
                <a:latin typeface="Arial"/>
              </a:rPr>
              <a:t>CALIDAD: un cambio de paradigma o modelo men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657600" y="2133720"/>
            <a:ext cx="1155600" cy="777600"/>
          </a:xfrm>
          <a:prstGeom prst="leftArrow">
            <a:avLst>
              <a:gd name="adj1" fmla="val 50000"/>
              <a:gd name="adj2" fmla="val 37153"/>
            </a:avLst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88880" y="26028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520C6-84DE-452E-952B-71AC558EE666}" type="slidenum">
              <a:t>4</a:t>
            </a:fld>
          </a:p>
        </p:txBody>
      </p:sp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15800" y="1125360"/>
            <a:ext cx="38163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marL="270000" indent="-27000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¿Cómo se puede definir el proceso de aprendizaje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0000" indent="-27000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¿Cómo sabemos que el proceso de aprendizaje es de calida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0000" indent="-27000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¿Cuál es el nivel de calidad requerido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0000" indent="-27000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¿Quién lo determina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0000" indent="-27000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¿Cómo se evalú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37240" y="260280"/>
            <a:ext cx="4952880" cy="504720"/>
          </a:xfrm>
          <a:prstGeom prst="rect">
            <a:avLst/>
          </a:prstGeom>
          <a:solidFill>
            <a:srgbClr val="80008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EGUNTAS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PARA LA REFLEXIÓ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737240" y="2276640"/>
            <a:ext cx="4319280" cy="1512720"/>
            <a:chOff x="4737240" y="2276640"/>
            <a:chExt cx="4319280" cy="1512720"/>
          </a:xfrm>
        </p:grpSpPr>
        <p:sp>
          <p:nvSpPr>
            <p:cNvPr id="102" name=""/>
            <p:cNvSpPr/>
            <p:nvPr/>
          </p:nvSpPr>
          <p:spPr>
            <a:xfrm>
              <a:off x="5313240" y="2276640"/>
              <a:ext cx="374328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</a:rPr>
                <a:t>Se alcanzan</a:t>
              </a:r>
              <a:r>
                <a:rPr b="1" lang="es-ES" sz="2000" spc="-1" strike="noStrike">
                  <a:solidFill>
                    <a:srgbClr val="ffffff"/>
                  </a:solidFill>
                  <a:latin typeface="Arial"/>
                </a:rPr>
                <a:t> los resultados</a:t>
              </a:r>
              <a:r>
                <a:rPr b="1" lang="es-E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" sz="2000" spc="-1" strike="noStrike">
                  <a:solidFill>
                    <a:srgbClr val="ffffff"/>
                  </a:solidFill>
                  <a:latin typeface="Arial"/>
                </a:rPr>
                <a:t>PLANFICAD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37240" y="2635200"/>
              <a:ext cx="647640" cy="6476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600" rIns="12600" tIns="12600" bIns="12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808520" y="3716280"/>
            <a:ext cx="4320720" cy="720720"/>
            <a:chOff x="4808520" y="3716280"/>
            <a:chExt cx="4320720" cy="720720"/>
          </a:xfrm>
        </p:grpSpPr>
        <p:sp>
          <p:nvSpPr>
            <p:cNvPr id="105" name=""/>
            <p:cNvSpPr/>
            <p:nvPr/>
          </p:nvSpPr>
          <p:spPr>
            <a:xfrm>
              <a:off x="5241600" y="3716280"/>
              <a:ext cx="3887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</a:rPr>
                <a:t>El que haya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</a:rPr>
                <a:t>fijado el CENTR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08520" y="3787560"/>
              <a:ext cx="647640" cy="6476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600" rIns="12600" tIns="12600" bIns="12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808520" y="4653000"/>
            <a:ext cx="4178160" cy="793800"/>
            <a:chOff x="4808520" y="4653000"/>
            <a:chExt cx="4178160" cy="793800"/>
          </a:xfrm>
        </p:grpSpPr>
        <p:sp>
          <p:nvSpPr>
            <p:cNvPr id="108" name=""/>
            <p:cNvSpPr/>
            <p:nvPr/>
          </p:nvSpPr>
          <p:spPr>
            <a:xfrm>
              <a:off x="5099040" y="4726080"/>
              <a:ext cx="3887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</a:rPr>
                <a:t>NOSOTR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8520" y="4653000"/>
              <a:ext cx="647640" cy="6480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600" rIns="12600" tIns="12600" bIns="12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808520" y="5443560"/>
            <a:ext cx="4178160" cy="793800"/>
            <a:chOff x="4808520" y="5443560"/>
            <a:chExt cx="4178160" cy="793800"/>
          </a:xfrm>
        </p:grpSpPr>
        <p:sp>
          <p:nvSpPr>
            <p:cNvPr id="111" name=""/>
            <p:cNvSpPr/>
            <p:nvPr/>
          </p:nvSpPr>
          <p:spPr>
            <a:xfrm>
              <a:off x="5099040" y="5516640"/>
              <a:ext cx="3887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</a:rPr>
                <a:t>COMPROBAND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08520" y="5443560"/>
              <a:ext cx="647640" cy="6480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600" rIns="12600" tIns="12600" bIns="12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737240" y="1052640"/>
            <a:ext cx="4319280" cy="1512720"/>
            <a:chOff x="4737240" y="1052640"/>
            <a:chExt cx="4319280" cy="1512720"/>
          </a:xfrm>
        </p:grpSpPr>
        <p:sp>
          <p:nvSpPr>
            <p:cNvPr id="114" name=""/>
            <p:cNvSpPr/>
            <p:nvPr/>
          </p:nvSpPr>
          <p:spPr>
            <a:xfrm>
              <a:off x="5313240" y="1052640"/>
              <a:ext cx="374328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</a:rPr>
                <a:t>NO limitar el proceso de aprendizaje a la interacción alumno-profesor en el aula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</a:rPr>
                <a:t>VISIÓN GLOBAL Y COLECTIV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37240" y="1411200"/>
              <a:ext cx="647640" cy="6476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600" rIns="12600" tIns="12600" bIns="12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0" y="0"/>
            <a:ext cx="1352520" cy="793800"/>
          </a:xfrm>
          <a:prstGeom prst="rightArrow">
            <a:avLst>
              <a:gd name="adj1" fmla="val 50000"/>
              <a:gd name="adj2" fmla="val 42596"/>
            </a:avLst>
          </a:prstGeom>
          <a:solidFill>
            <a:srgbClr val="0066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ORMACIÓN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BB3FB-A073-4602-9A37-AD9F2DD9F0FE}" type="slidenum">
              <a:t>5</a:t>
            </a:fld>
          </a:p>
        </p:txBody>
      </p:sp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089240" y="260280"/>
            <a:ext cx="5600880" cy="504720"/>
          </a:xfrm>
          <a:prstGeom prst="rect">
            <a:avLst/>
          </a:prstGeom>
          <a:solidFill>
            <a:srgbClr val="80008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L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MÉTODO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EN LA FP DEL PAÍS VASC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2160" y="1197000"/>
            <a:ext cx="8353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457200" indent="-3618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artir de una distinción entre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oducto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oceso,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es decir, entre el servicio educativo y el proceso que seguimos para la prestación de ese servicio -proceso de formación-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3618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3618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dentificar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y definir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ambos con la mayor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ecisión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posib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3618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3618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stablecer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bjetivos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(de resultados y de rendimiento) para amb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3618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3618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alizar un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mprobación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periódica para ver si se alcanzan dichos objetiv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3618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3618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so de no alcanzarse,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nalizar las causas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y adoptar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cciones de mejora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. Si se alcanzan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antener o revisar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los objetivos al alza según sea el cas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1352520" cy="793800"/>
          </a:xfrm>
          <a:prstGeom prst="rightArrow">
            <a:avLst>
              <a:gd name="adj1" fmla="val 50000"/>
              <a:gd name="adj2" fmla="val 42596"/>
            </a:avLst>
          </a:prstGeom>
          <a:solidFill>
            <a:srgbClr val="0066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ORMACIÓN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87DE3-B4BA-4836-8FB0-2E9F7472C307}" type="slidenum">
              <a:t>6</a:t>
            </a:fld>
          </a:p>
        </p:txBody>
      </p:sp>
    </p:spTree>
  </p:cSld>
  <p:transition spd="med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2218320"/>
            <a:ext cx="462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Cuál es el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ODUCTO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ue “fabricamos” en los Centros de FP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0520" y="3449520"/>
            <a:ext cx="4321080" cy="862560"/>
          </a:xfrm>
          <a:prstGeom prst="rect">
            <a:avLst/>
          </a:prstGeom>
          <a:solidFill>
            <a:srgbClr val="6600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Cuál es el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ervici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que damo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QUÉ RECIBE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uestro  alumnad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97600" y="3438360"/>
            <a:ext cx="3384360" cy="2774520"/>
          </a:xfrm>
          <a:prstGeom prst="cloudCallout">
            <a:avLst>
              <a:gd name="adj1" fmla="val -52615"/>
              <a:gd name="adj2" fmla="val -39351"/>
            </a:avLst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Formación, Habilidades, Competencias, Capacidades, Convivencia, Títulos, Actitudes..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079640" y="4241880"/>
            <a:ext cx="3222360" cy="1494000"/>
            <a:chOff x="1079640" y="4241880"/>
            <a:chExt cx="3222360" cy="1494000"/>
          </a:xfrm>
        </p:grpSpPr>
        <p:sp>
          <p:nvSpPr>
            <p:cNvPr id="124" name=""/>
            <p:cNvSpPr/>
            <p:nvPr/>
          </p:nvSpPr>
          <p:spPr>
            <a:xfrm>
              <a:off x="1138320" y="4854600"/>
              <a:ext cx="3163680" cy="881280"/>
            </a:xfrm>
            <a:prstGeom prst="roundRect">
              <a:avLst>
                <a:gd name="adj" fmla="val 365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"/>
                </a:rPr>
                <a:t>Reciben CURSOS,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"/>
                </a:rPr>
                <a:t>CICLOS FORMATIV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79640" y="4241880"/>
              <a:ext cx="2360520" cy="593640"/>
            </a:xfrm>
            <a:custGeom>
              <a:avLst/>
              <a:gdLst>
                <a:gd name="textAreaLeft" fmla="*/ 0 w 2360520"/>
                <a:gd name="textAreaRight" fmla="*/ 2360880 w 236052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4097" y="4062"/>
                  </a:moveTo>
                  <a:arcTo wR="-9504" hR="-9504" stAng="-8091049" swAng="-4392153"/>
                  <a:lnTo>
                    <a:pt x="20331" y="5721"/>
                  </a:lnTo>
                  <a:arcTo wR="10800" hR="10800" stAng="-1683202" swAng="4392153"/>
                  <a:lnTo>
                    <a:pt x="20321" y="20371"/>
                  </a:lnTo>
                  <a:lnTo>
                    <a:pt x="15586" y="20358"/>
                  </a:lnTo>
                  <a:lnTo>
                    <a:pt x="15599" y="15624"/>
                  </a:lnTo>
                  <a:close/>
                </a:path>
              </a:pathLst>
            </a:cu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665600" y="2162160"/>
            <a:ext cx="4103640" cy="834840"/>
            <a:chOff x="4665600" y="2162160"/>
            <a:chExt cx="4103640" cy="834840"/>
          </a:xfrm>
        </p:grpSpPr>
        <p:sp>
          <p:nvSpPr>
            <p:cNvPr id="127" name=""/>
            <p:cNvSpPr/>
            <p:nvPr/>
          </p:nvSpPr>
          <p:spPr>
            <a:xfrm>
              <a:off x="5583240" y="2162160"/>
              <a:ext cx="3186000" cy="7794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</a:rPr>
                <a:t>No fabricamos productos, damos un </a:t>
              </a:r>
              <a:r>
                <a:rPr b="1" lang="es-ES_tradnl" sz="2000" spc="-1" strike="noStrike">
                  <a:solidFill>
                    <a:srgbClr val="ffffff"/>
                  </a:solidFill>
                  <a:latin typeface="Arial"/>
                </a:rPr>
                <a:t>servicio</a:t>
              </a: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</a:rPr>
                <a:t>..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4665600" y="2219040"/>
              <a:ext cx="719280" cy="77796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2880" y="907920"/>
            <a:ext cx="9001440" cy="86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s EMPRESAS fabrican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ODUCTOS,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que ofrecen en sus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TÁLOG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diante los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OCES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de producción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81240" y="476280"/>
            <a:ext cx="6193080" cy="42300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PRODUCTO EDUCA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1352520" cy="793800"/>
          </a:xfrm>
          <a:prstGeom prst="rightArrow">
            <a:avLst>
              <a:gd name="adj1" fmla="val 50000"/>
              <a:gd name="adj2" fmla="val 42596"/>
            </a:avLst>
          </a:prstGeom>
          <a:solidFill>
            <a:srgbClr val="0066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ORMACIÓN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38BAE-50AF-4065-8AC7-64068235BC5F}" type="slidenum">
              <a:t>7</a:t>
            </a:fld>
          </a:p>
        </p:txBody>
      </p:sp>
    </p:spTree>
  </p:cSld>
  <p:transition spd="med">
    <p:strips dir="l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7.5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28520" y="2540520"/>
            <a:ext cx="43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Y si nuestro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ODUCTO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on los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cursos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cuál es nuestro proceso de producción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520880" y="2459160"/>
            <a:ext cx="4880160" cy="1117440"/>
            <a:chOff x="4520880" y="2459160"/>
            <a:chExt cx="4880160" cy="1117440"/>
          </a:xfrm>
        </p:grpSpPr>
        <p:sp>
          <p:nvSpPr>
            <p:cNvPr id="134" name=""/>
            <p:cNvSpPr/>
            <p:nvPr/>
          </p:nvSpPr>
          <p:spPr>
            <a:xfrm>
              <a:off x="5402160" y="2459160"/>
              <a:ext cx="3998880" cy="11174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</a:rPr>
                <a:t>No tenemos un proceso de fabricación sino un proceso para la prestación de un </a:t>
              </a:r>
              <a:r>
                <a:rPr b="1" lang="es-ES_tradnl" sz="2000" spc="-1" strike="noStrike">
                  <a:solidFill>
                    <a:srgbClr val="ffffff"/>
                  </a:solidFill>
                  <a:latin typeface="Arial"/>
                </a:rPr>
                <a:t>servicio</a:t>
              </a: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</a:rPr>
                <a:t>..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520520" y="2622240"/>
              <a:ext cx="718920" cy="77760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31800" y="3884760"/>
            <a:ext cx="8929800" cy="2013840"/>
            <a:chOff x="631800" y="3884760"/>
            <a:chExt cx="8929800" cy="2013840"/>
          </a:xfrm>
        </p:grpSpPr>
        <p:sp>
          <p:nvSpPr>
            <p:cNvPr id="137" name=""/>
            <p:cNvSpPr/>
            <p:nvPr/>
          </p:nvSpPr>
          <p:spPr>
            <a:xfrm>
              <a:off x="4930920" y="3884760"/>
              <a:ext cx="4630680" cy="1769760"/>
            </a:xfrm>
            <a:prstGeom prst="rect">
              <a:avLst/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ffffff"/>
                  </a:solidFill>
                  <a:latin typeface="Arial"/>
                </a:rPr>
                <a:t>PUBLICIDAD, MATRÍCULA, ACOGIDA, PROGRAMACIÓN PLANIFICACIÓN DOCENTE,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ffffff"/>
                  </a:solidFill>
                  <a:latin typeface="Arial"/>
                </a:rPr>
                <a:t>DESARROLLO DE LAS CLASES,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ffffff"/>
                  </a:solidFill>
                  <a:latin typeface="Arial"/>
                </a:rPr>
                <a:t>EVALUACIÓN, TUTORÍA, FCT...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1800" y="3884760"/>
              <a:ext cx="3600360" cy="2013840"/>
            </a:xfrm>
            <a:prstGeom prst="flowChartDocumen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l que permite impartir un curso de formación, una serie de actividades que podemos agrupar en subprocesos..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4232160" y="4437000"/>
              <a:ext cx="719280" cy="77796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081240" y="692280"/>
            <a:ext cx="6193080" cy="42300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PROC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2880" y="1123560"/>
            <a:ext cx="9001440" cy="865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s EMPRESAS fabrican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ODUCTOS,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que ofrecen en sus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TÁLOG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diante los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OCES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de producción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1352520" cy="793800"/>
          </a:xfrm>
          <a:prstGeom prst="rightArrow">
            <a:avLst>
              <a:gd name="adj1" fmla="val 50000"/>
              <a:gd name="adj2" fmla="val 42596"/>
            </a:avLst>
          </a:prstGeom>
          <a:solidFill>
            <a:srgbClr val="0066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ORMACIÓN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0A8D1-A2E6-4DE5-9145-B0F0D033F476}" type="slidenum">
              <a:t>8</a:t>
            </a:fld>
          </a:p>
        </p:txBody>
      </p:sp>
    </p:spTree>
  </p:cSld>
  <p:transition spd="med">
    <p:strips dir="l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089240" y="260280"/>
            <a:ext cx="5600880" cy="504720"/>
          </a:xfrm>
          <a:prstGeom prst="rect">
            <a:avLst/>
          </a:prstGeom>
          <a:solidFill>
            <a:srgbClr val="80008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N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RESUMEN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0520" y="1052640"/>
            <a:ext cx="7632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ERVICI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os</a:t>
            </a:r>
            <a:r>
              <a:rPr b="0" i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curso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de formación, </a:t>
            </a:r>
            <a:r>
              <a:rPr b="0" i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clos formativ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ATÁLOGO DE PRODUCTO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</a:t>
            </a:r>
            <a:r>
              <a:rPr b="0" i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oferta educa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ONTRAT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</a:t>
            </a:r>
            <a:r>
              <a:rPr b="0" i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matrícu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RODUCTO FINAL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l </a:t>
            </a:r>
            <a:r>
              <a:rPr b="0" i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ítulo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con determinado valor en el merc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ROCE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rogramación, matriculación, acogida, planificación docente, desarrollo de actividades de aula, evaluación, tutoría, FCT,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ALIDA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188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e los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urs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188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el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roceso de forma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1352520" cy="793800"/>
          </a:xfrm>
          <a:prstGeom prst="rightArrow">
            <a:avLst>
              <a:gd name="adj1" fmla="val 50000"/>
              <a:gd name="adj2" fmla="val 42596"/>
            </a:avLst>
          </a:prstGeom>
          <a:solidFill>
            <a:srgbClr val="0066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ORMACIÓN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7BAC5-FECA-4767-8EC1-8EF5E650F3BD}" type="slidenum">
              <a:t>9</a:t>
            </a:fld>
          </a:p>
        </p:txBody>
      </p:sp>
    </p:spTree>
  </p:cSld>
  <p:transition spd="med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21:12:11Z</dcterms:created>
  <dc:creator>-</dc:creator>
  <dc:description/>
  <dc:language>en-US</dc:language>
  <cp:lastModifiedBy>Manuel</cp:lastModifiedBy>
  <dcterms:modified xsi:type="dcterms:W3CDTF">2006-12-07T11:27:57Z</dcterms:modified>
  <cp:revision>172</cp:revision>
  <dc:subject/>
  <dc:title>PLANIFICACIÓN  ESTRATÉGICA EN CENTROS DE FP.  MODELO DE SAREka</dc:title>
</cp:coreProperties>
</file>