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C9A8-DD86-42E8-8201-0D7C6FF629A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conomía Glob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 la economía global, los conceptos de matriz y filiales van cediendo a favor de nodos de red autónomos, donde priman las estrategias de especialización, mientras se teje una red de transferencia de información y conocimiento entre sus miemb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 rápido sobrevivirá, el lento desaparecer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BCA-28A8-449C-A98B-1E2BD017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8C2-378D-4E3C-A51F-0F9A8E44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99B-8CFF-46F2-B1AD-E8945A59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EF0-906E-4C42-9E67-309615B6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208-0368-49E1-87E6-8D15237E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C80-8F90-4BC9-8C86-D763E3B5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FEF-AFA5-4A50-9CA3-77C7F82F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F7A-1588-400C-88FD-651B6879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478-9963-452D-9344-ACD0957C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846-CE9B-4715-9719-A9F3CF76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635-D5A8-4860-8466-CAA807AD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58C-D311-4CAC-A828-916AC085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D50B-AB30-47B5-BD5D-30DCD68AAB1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99"/>
                </a:solidFill>
                <a:uFillTx/>
                <a:latin typeface="Arial Black"/>
              </a:rPr>
              <a:t>FORMACION PROFESIO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Arial Black"/>
              </a:rPr>
              <a:t>CALIDAD IMPRESCIND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Jesús Aréva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6699ff"/>
                </a:solidFill>
                <a:uFillTx/>
                <a:latin typeface="Arial"/>
              </a:rPr>
              <a:t>Índice de globalización 2006. Consultora AT Kearne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22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Croacia   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27. 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It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23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Francia   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28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Jap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24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Portugal 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29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Corea del S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25.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España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30.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 Rumanía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26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Eslovaqu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305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99ff"/>
                </a:solidFill>
                <a:uFillTx/>
                <a:latin typeface="Arial"/>
              </a:rPr>
              <a:t>Actualidad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n materia de innovación, formación y estímulo emprendedor, todo esfuerzo es po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s condiciones de España para afrontar este reto en la actualidad, son las mejores en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Econom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ociedad indus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ociedad de la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ociedad del 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ociedad de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ociedad de la inno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Innovación estratégica en la F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texto social y económico con cambios muy ráp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os elementos fundamentales, anticipación y flex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n un desafío de innovación perman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cepto abierto de la innovación. Ideas y crea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ambio a gran esca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na nueva concepción de la F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oderna, ágil y efica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in olvidar su tradición, desarrolle esquemas innov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Innovación estratégica en la F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1066680"/>
            <a:ext cx="6985080" cy="87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4680">
              <a:lnSpc>
                <a:spcPct val="15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4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4680">
              <a:lnSpc>
                <a:spcPct val="15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Centros de FP que li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4680">
              <a:lnSpc>
                <a:spcPct val="15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Nodos de red autóno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4680">
              <a:lnSpc>
                <a:spcPct val="15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Estrategias de especi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4680">
              <a:lnSpc>
                <a:spcPct val="15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Arial"/>
              </a:rPr>
              <a:t>Red de transferencia  de información y 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4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4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4680">
              <a:lnSpc>
                <a:spcPct val="15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4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333360"/>
            <a:ext cx="73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6699ff"/>
                </a:solidFill>
                <a:uFillTx/>
                <a:latin typeface="Arial"/>
              </a:rPr>
              <a:t>Innovación estratégica en la FP</a:t>
            </a:r>
            <a:r>
              <a:rPr b="1" lang="es-ES" sz="4000" spc="-1" strike="noStrike" u="sng">
                <a:solidFill>
                  <a:srgbClr val="6699ff"/>
                </a:solidFill>
                <a:uFillTx/>
                <a:latin typeface="Times New Roman"/>
              </a:rPr>
              <a:t>.</a:t>
            </a:r>
            <a:r>
              <a:rPr b="1" lang="es-ES_tradnl" sz="4000" spc="-1" strike="noStrike">
                <a:solidFill>
                  <a:srgbClr val="6699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Innovación estratégica en la F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novación estratégica. Tecnología, conocimiento, calidad y coopera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des de creación de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rganizaciones inteli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99ff"/>
                </a:solidFill>
                <a:uFillTx/>
                <a:latin typeface="Arial"/>
              </a:rPr>
              <a:t>Formación profes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 educación en España se ha universalizado, pero no se ha transformado en lo sustan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n sistema estático no puede funcionar en un entorno cambiante y dinámico, y la Formación Profesional, me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99ff"/>
                </a:solidFill>
                <a:uFillTx/>
                <a:latin typeface="Arial"/>
              </a:rPr>
              <a:t>Formación profes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a a jugar un papel fundam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65% puestos de trabajo, nivel de F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enemos que cambiar y mejor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sto de países cambiando sus sistemas de 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Innov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novar es introducir una novedad en al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Características de la nueva econom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 ha puesto en marcha un nuevo modelo ec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 mundo está experimentando cambios muy import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merge una situación compleja e inci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Innovar. Principios fundament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na innovación estratégica, abierta y competi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o hay verdadera transformación sin ruptu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 innovación busca y necesita 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tensa relación entre innovación y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Innov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 mejor fuente de innovación es el trabajador que pien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99ff"/>
                </a:solidFill>
                <a:uFillTx/>
                <a:latin typeface="Arial"/>
              </a:rPr>
              <a:t>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 concepto de calidad no es nuevo en la 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mplicados de una forma u otra en contextos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in aplicar un enfoque f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esarrollar métodos, reglas,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arantizaran la calidad de lo hech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99ff"/>
                </a:solidFill>
                <a:uFillTx/>
                <a:latin typeface="Arial"/>
              </a:rPr>
              <a:t>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ero los conceptos van cambi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os requerimientos y necesidades van evolucion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ecesitamos sistemas nue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porten nuevas dim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istema de formación comple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n un momento incie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99ff"/>
                </a:solidFill>
                <a:uFillTx/>
                <a:latin typeface="Arial"/>
              </a:rPr>
              <a:t>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esarrollo actual de la sociedad está evolucion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ersonas más críticas, con mayores posibilidades de eleg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 mayores deseos de 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ecesidad de una mayor flexibilidad y adaptación a sus posi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Qué es c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alidad es hacer bien las cosas que hay que hacer.........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99ff"/>
                </a:solidFill>
                <a:uFillTx/>
                <a:latin typeface="Arial"/>
              </a:rPr>
              <a:t>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.............y en cualquier momento, poder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emostrar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La calidad impl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na forma diferente de ha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na nueva forma de 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tra forma de en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La calidad impl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odificar conduc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prender nuevas téc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rabajar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lexibilizar cultura y háb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n un sistema educativo ríg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99ff"/>
                </a:solidFill>
                <a:uFillTx/>
                <a:latin typeface="Arial"/>
              </a:rPr>
              <a:t>Gestión de la 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seguimos demostrar que lo que hacemos es lo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umentamos la comprensión de la situación actual y fu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frecemos una base para la mejora en diferentes ámb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Características de la nueva econom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88680" y="2685960"/>
            <a:ext cx="686916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lob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dap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ductiv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ejora contin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o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no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99ff"/>
                </a:solidFill>
                <a:uFillTx/>
                <a:latin typeface="Arial"/>
              </a:rPr>
              <a:t>Un sistema de control de 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 diseño y la planificación se basan en necesidades y exigencias identific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 funcionamiento y los resultados están en conformidad con lo programado e identifi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99ff"/>
                </a:solidFill>
                <a:uFillTx/>
                <a:latin typeface="Arial"/>
              </a:rPr>
              <a:t>Un sistema de control de 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xisten mecanismos adecuados y eficaces para la evaluación de 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xisten procedimientos que nos garantizan la mejora continua de 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99ff"/>
                </a:solidFill>
                <a:uFillTx/>
                <a:latin typeface="Arial"/>
              </a:rPr>
              <a:t>Mejora continu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 palabr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que reúne en sí misma todos los conceptos definitivos en la calidad, es la palabra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ejo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 mejora continua es la forma de organizar, progresar y prosperar en cualquier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99ff"/>
                </a:solidFill>
                <a:uFillTx/>
                <a:latin typeface="Arial"/>
              </a:rPr>
              <a:t>La cultura de la mej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mplica el deseo de ampliar y perfeccionar las posibilidades de sacar adelante un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os ofrece una metodología para su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99ff"/>
                </a:solidFill>
                <a:uFillTx/>
                <a:latin typeface="Arial"/>
              </a:rPr>
              <a:t>La cultura de la mej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ejorar continuamente lo que hacemos, nos remite a hacer las cosas correct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 trata de saber en qué dirección queremos avanzar, contrast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Y evaluando lo que se realiza y a quien lo real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Trabajo en equi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pós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mpromi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étodo y aprendizaje colabor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or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écnicas y herrami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Parte negati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uesta asimilar 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esarrollar un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ormar a una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Parte positi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ejora de 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stión de los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ejora de los 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mplicación de las pers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Conferencia Episcop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“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 sociedad española está apagada,  moribunda y no se siente responsable de  su futuro”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                                 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icardo Blázqu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Nuestra historia recie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ara mantener posiciones punt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Ver motivaciones que impulsaron a personas sin medios y poca 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aventuras que hoy perdu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 hambre empuja much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Econom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y en día hay países que son más competitivos, unos por costes, y otros por tecnología e innov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En la actu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 percibe en la sociedad una cierta aton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na satisfacción por lo alcan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in preguntarse por las razones que lo hicieron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En la actu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arece que todos tenemos derecho a un bienestar razonable, solo por haber nac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se bienestar es una construcción en la que todos tenemos que partici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odo derecho conlleva alguna obli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Actu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Juventud mejor preparada de la his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Ubicar mejor y ser más precisos en la expr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Juventud mejor formada de la his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Actu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oseen más conocimientos, pero eso no resulta su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ienen solo una capacidad potencial para cambiar las c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sa capacidad hay que ponerla en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Y eso supone algo más que el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Actit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ultura del esfuer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e la mej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e la persever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e la preocupación por los dem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sulta imprescindible para que el conocimiento sea realmente oper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Resumie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bocados a una inevitable sustitución de las actividades de menor valor añad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ener claro que siempre habrá alguien que hará lo mismo  que nosotros, o mejor, por menos din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Resumie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on necesarias respuestas originales a preguntas de siemp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ucho más a preguntas que aún hoy no se han plante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arantizando que las cosas las hacemos b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99ff"/>
                </a:solidFill>
                <a:uFillTx/>
                <a:latin typeface="Arial"/>
              </a:rPr>
              <a:t>Resumien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os la jug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s responsabilidad de to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 empleo cualificado determin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fianza, implicación, mejora continua, y co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 calidad en la FP estratégicamente imprescind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El maestro afecta a la eternidad.    Nunca sabe donde acaba su influenci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lang="es-ES" sz="3600" spc="-1" strike="noStrike">
                <a:solidFill>
                  <a:srgbClr val="000099"/>
                </a:solidFill>
                <a:latin typeface="Arial"/>
              </a:rPr>
              <a:t>Henri Ad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600" spc="-1" strike="noStrike" u="sng">
              <a:solidFill>
                <a:srgbClr val="6699ff"/>
              </a:solidFill>
              <a:uFillTx/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Muchas gracias por su atenció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jarevalo@irakasle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99ff"/>
                </a:solidFill>
                <a:uFillTx/>
                <a:latin typeface="Arial"/>
              </a:rPr>
              <a:t>Sueldos industriales n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Bulgaria...... 1.176 e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Letonia........ 2.069 e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Lituania....... 2.299 e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Hungría....... 3.082 e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Chequia...... 5.016 e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España...... 13.009 eu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9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en-US" sz="3600" spc="-1" strike="noStrike" u="sng">
                <a:solidFill>
                  <a:srgbClr val="6699ff"/>
                </a:solidFill>
                <a:uFillTx/>
                <a:latin typeface="Arial"/>
              </a:rPr>
              <a:t>Índice de innovación europea 20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Las inversiones que la empresa española destina a I+D+I está en torno al 45% de la media europ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Las patentes están en el 20% de la media europ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Las inversiones en TICs están en el 17% de la media europ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305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99ff"/>
                </a:solidFill>
                <a:uFillTx/>
                <a:latin typeface="Arial"/>
              </a:rPr>
              <a:t>Analistas Financieros Internacionales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Triplicar el gasto en I+D+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Con el 25% de aumento en la inversión actual, 21 años para llegar a los stándares europe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Compromiso real con el cono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6699ff"/>
                </a:solidFill>
                <a:uFillTx/>
                <a:latin typeface="Arial"/>
              </a:rPr>
              <a:t>Índice de globalización 2006. Consultora AT Kearne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mite una radiografía sobre el grado de preparación económica de un paí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 forma de afrontar los desafíos inmediatos de la globaliz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Y las posibilidades que tiene de generar prosperidad en el fut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6699ff"/>
                </a:solidFill>
                <a:uFillTx/>
                <a:latin typeface="Arial"/>
              </a:rPr>
              <a:t>Índice de globalización 2006. Consultora AT Kearne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Singapur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8. 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Australia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15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Isr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Suiza      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9. 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Austria   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16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R.Che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EEUU     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10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Suecia   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17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Eslov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Irlanda   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11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N.Zelanda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18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Alem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Dinamarca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12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R.Unido  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19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Mal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Canadá  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13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Finlandia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20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Hung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Holanda 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14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Noruega         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21. 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Panam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7:15:51Z</dcterms:created>
  <dc:creator>pc</dc:creator>
  <dc:description/>
  <dc:language>en-US</dc:language>
  <cp:lastModifiedBy>Manuel</cp:lastModifiedBy>
  <dcterms:modified xsi:type="dcterms:W3CDTF">2006-12-07T11:27:19Z</dcterms:modified>
  <cp:revision>167</cp:revision>
  <dc:subject/>
  <dc:title>Presentación de PowerPoint</dc:title>
</cp:coreProperties>
</file>